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803-81FD-457D-B5F3-E90DF477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1C3-C289-4767-88D5-4A49A88B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BF5-0B48-41AD-BA2F-BCCBE69A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937-95FB-4068-90DE-50C7492A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4FE-F650-4A00-88BF-A0B1C6D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96D-5886-4F4A-BE10-194E854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86E-73DD-4F74-B880-F0F4296C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4E3-CDC2-4750-B818-F936291E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27A-E736-46AD-AB95-9AA89D9C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744-ABD7-4C4E-A417-5792490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5A7-CD17-4D3E-831A-36F1EE2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BA5-1019-4C8B-89C6-5BBA0489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BB9-0902-4C19-A9F9-2F1EF173F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25720" y="4648320"/>
            <a:ext cx="1752480" cy="1828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تفسير لجزء تبارك و عم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04920" y="-2066760"/>
            <a:ext cx="243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6240" y="335880"/>
            <a:ext cx="4518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Times New Roman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1219320"/>
          <a:ext cx="2101680" cy="3276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0492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0440" y="1139040"/>
            <a:ext cx="44632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أ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جامع العلوم والحكم                للإمام ابن رج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     ط.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شرح العقيدة الواسطية         للشيخ صالح الفوز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درر البهية للشوكاني(صفحة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تحقيق: العبي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) أسبوع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تفسير السعدي                     ط. مؤسسة الرسا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 من صفح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1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98360" y="411336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ج/ إذا لم تستشكل فاعلم أنك لم تفهم ما قرأته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846000"/>
          <a:ext cx="8229600" cy="418644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بيل النجاة من شؤم المعصية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فات على الطريق    محمد السيد نو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وسائل دفع الغربة                الشيخ سلمان العودة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عقوق الوالدين      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هاجر إلى ربه    ابن القي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خسر العالم بانحطاط المسلمين    الندو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عادة بين الوهم والحقيقة د. ناصر العم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لية طالب العلم   بكر أبو زي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رائد ( دروس في التربية )       مازن الفري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ثمن الجنة   عبد الملك القاس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خشوع في الصلاة   ابن رج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بل أن يهدم الأقصى    عبد العزيز مصطف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شباب الصحابة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اذا تفعل في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دقائق القاسم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نازع والتوازن                   محمد عقيل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طريقك إلى القلوب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يل النفسية   نهاد در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قالات في التربية              محمد الدوي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إيقاظ الهمة السعيدان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ليب العلمانيين في تغريب المرأة     الب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ضية تحرير المرأة                  محمد قط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زمن عند العلماء           أبو غدّ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تى لا تكون كلاً   عوض القر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ثنا الفكري في ميزان الشرع والعقل   الغزال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وابل الصيب لابن الق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اليب النبوية للمنج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صول في التفكير الموضوعي د. عبد الكريم بكا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هكذا علمتني الحياة ل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بية الزوجية لمحمد الحمد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فاهيم خاطئة لعبد الكريم غل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مشكلات الشباب  ابن عثيم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رأة وكيد الأعداء عبد الله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يد الخاطر لابن الجوز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797040"/>
          <a:ext cx="8229600" cy="415584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8195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ــــرة والتاريـــخ والتراجــــ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( ج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( ب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( أ )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السيرة النبوية   تحقيق/ الشا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هذيب سيرة ابن هشام لشيخ المحققين د . عبد السلام هارو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من مصادرها الأصلية    مهد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يرة النبوية دروس وعبر        السباع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عارك الكبرى في تاريخ الإسلام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تاريخية في عصر الخلفاء   محمد الوك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ات الرسول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  شوقي أبو خل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سير الصحابة       السحيب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رّدة               محمد أحمد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طل الأبطال     عبد الرحمن عزا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الشمائل المحمدية الألباني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زهة الفضلاء محمد عق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صحابة  محمد الباشا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غزوة بدر الكبرى  باشميل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انب من سيرة الشيخ ابن باز لمحمد الحم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لسلة بطولات إسلامية  محمد نص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ن روائع القصص في السيرة      الخرا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عواصم من القواصم              ابن العرب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شاهد من حياة الصديق   محمد المجذو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لامح الانقلاب الإسلامي  عماد الدي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ادة فتوح الشام ومصر       محمود خط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صور من حياة التابعين  محمد الباش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صة بعث جيش أسامة      فضل إله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يعيد التاريخ نفسه ؟             محمد العبد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علامنا البدراني + البرا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ولة في رياض العلماء           الأشق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حروب الإسلام في الشام              باشمي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ختصر زاد المعاد لمحمد بن عبد الوها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زاد المعاد لابن قيم الجو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بداية والنهاية لابن كث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971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c3300"/>
                </a:solidFill>
                <a:latin typeface="Arial"/>
                <a:cs typeface="Monotype Koufi"/>
              </a:rPr>
              <a:t>مع تمنياتنا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67080" y="878400"/>
            <a:ext cx="390384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برنامج القراءة العلمية المركزة ( ب )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أربع أحاديث بشرحها أسبوعيا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ستة أبواب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49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كتاب الصلا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ة أسبوعياً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               صفي الرحمن ا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* 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724280"/>
            <a:ext cx="160020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أربعون النوو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كتاب التوحيد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( الكتاب كاملاً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فتاوى إسلامي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 استيعاب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 الرحيق المختو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 نصف الكتاب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6960" y="4042080"/>
            <a:ext cx="47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تنبيهــــــــــــــــــــات مهمـــــــــــــــــــــ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تتجاوز الحد الأسبوعي إلا بعد تكرار المقرو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يس بالضرورة قراءة المواد الأربع جميعها يوميا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في أثناء القراءة ركز على الملاحظات التالي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أ / خطط على المسائل المهمة في نفس الكتاب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ب/ بادر بالسؤال عما يشكل من مسائل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ج/ إذا لم تستشكل فاعلم أنك لم تفهم ما قرأت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مدارسة المقروء مع آخر  له أهميته في ضبط ما تقرأ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لا يستغن بهذه القراءة عن طلب العلم لدى العلماء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 " من عمل بما علم ورّثه الله علم ما لا يعلم   "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1295280"/>
          <a:ext cx="2209680" cy="32767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990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ب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0" y="380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5334120"/>
            <a:ext cx="24382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حصيلة هذه القراءة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الأربعون النووية :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كتاب التوحيد :     ( نصف الكتاب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:   ( استيعاب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فتو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:   ( الكتاب كاملاً )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-1647720"/>
            <a:ext cx="2438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31880" y="1527120"/>
          <a:ext cx="2101680" cy="3654360"/>
        </p:xfrm>
        <a:graphic>
          <a:graphicData uri="http://schemas.openxmlformats.org/drawingml/2006/table">
            <a:tbl>
              <a:tblPr/>
              <a:tblGrid>
                <a:gridCol w="457200"/>
                <a:gridCol w="609480"/>
                <a:gridCol w="1035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م ينف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سب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ل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خا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د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اب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اس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ادي عش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28600" y="38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752040"/>
            <a:ext cx="378144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واعد وفوائد من الأربعين النووية     ناظم سلطا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حديثين بشرحهم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جامع الفريد في علم التوحيد     عبد الله الجار الل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ثلاثة أبواب من الكتاب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تاوى إسلامية ج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9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جمع محمد المسن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كتاب الطهارة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صفحات )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وضة الأنوار في سيرة النبي المختار   للمباركفو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قراءة 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) صفحة أسبوع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2787120"/>
            <a:ext cx="3717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تنبيهــــــــــــــــــــات مهمـــــــــــــــــــــ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ضع وقتاً يومياً لهذه القراءة بحدود (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دقيقة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ا تتجاوز الحد الأسبوعي إلا بعد تكرار المقروء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ليس بالضرورة قراءة المواد الأربع جميعها يومياً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أثناء القراءة ركز على الملاحظات التالية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أ / خطط على المسائل المهمة في نفس الكتاب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ب/ بادر بالسؤال عما يشكل من مسائل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ج/ إذا لم تستشكل فاعلم أنك لم تفهم ما قرأت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دارسة المقروء مع آخر  له أهميته في ضبط ما تقرأ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/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راقب نيتك في طلب العلم : بأن تكون لله وحده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/ "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عمل بما علم ورّثه الله علم ما لا يعلم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"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360" y="473040"/>
            <a:ext cx="59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خلال الفصل الدراسي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cs typeface="Monotype Koufi"/>
              </a:rPr>
              <a:t>برنامج القراءة العلمية المركزة  ( ج )</a:t>
            </a:r>
            <a:r>
              <a:rPr b="1" lang="ar-SA" sz="2400" spc="-1" strike="noStrike">
                <a:solidFill>
                  <a:srgbClr val="cc3300"/>
                </a:solidFill>
                <a:latin typeface="Arial"/>
                <a:ea typeface="Monotype Koufi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49120" y="303840"/>
            <a:ext cx="357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cc3300"/>
                </a:solidFill>
                <a:latin typeface="Arial"/>
                <a:cs typeface="PT Bold Heading"/>
              </a:rPr>
              <a:t>برنامج مقترح للقراءة المثم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858960"/>
          <a:ext cx="8534160" cy="5541840"/>
        </p:xfrm>
        <a:graphic>
          <a:graphicData uri="http://schemas.openxmlformats.org/drawingml/2006/table">
            <a:tbl>
              <a:tblPr/>
              <a:tblGrid>
                <a:gridCol w="3159000"/>
                <a:gridCol w="3076560"/>
                <a:gridCol w="2298600"/>
              </a:tblGrid>
              <a:tr h="291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الـــــــــقرآن وعــــــــلومه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 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لسع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قراءة مستمرة في :- تفسير ابن كثير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جزء " عم " من تفسير الجلال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بيان في آداب حملة القرآن     النوو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ي ظلال القرآن لسيد قط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فتوى في احترام القرآن  جمع/أبو لو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ورة الحجرات دراسة تحليلية     العم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دخل لدراسة القرآن              أبو شهب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الس ووقفات مع كتاب الله  الرمّان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لاق حملة القرآن             الآجر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إسرائيليات والموضوعات في كتب التفس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 القرآن وحملته   عبيد الشعب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اتيح للتعامل مع القرآن   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ويبات في فهم بعض الآيات   الخالد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أملات في كتاب الله جـ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العوايش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ضائل القرآن       ابن كثير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إبراهيم        محمد جميل غازي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فظ القرآن الكريم   محمد الدوي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يف تحفظ القرآن      عبد الرب نواب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يسير اللطيف المنان في خلاصة تفسير القرآ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ذهبية    عبد الرحمن عبد الخال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صحيح المسند من أسباب النزول     الواد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قدمة التفسير ج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ن فتاوى ابن تيمي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الفاتحة 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راسات في علوم القران        الروم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ات أحكامها ومصدرها    شعبان محم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شفيع           عمر باشمي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للمتخصص)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ابن عثيمي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صول في أصول التفسير </a:t>
                      </a:r>
                      <a:r>
                        <a:rPr b="1" lang="ar-SA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للمتخصص) </a:t>
                      </a: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لطيا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الفاتحة والعلق للشيخ محمد بن عبد الوها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فسير سورة هود للشيخ الشنقيطي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رر في تناسب الآيات والسور للبقاعي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471600"/>
          <a:ext cx="8229600" cy="5991120"/>
        </p:xfrm>
        <a:graphic>
          <a:graphicData uri="http://schemas.openxmlformats.org/drawingml/2006/table">
            <a:tbl>
              <a:tblPr/>
              <a:tblGrid>
                <a:gridCol w="3046320"/>
                <a:gridCol w="2967120"/>
                <a:gridCol w="2216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ــنــــــــة وعلـــــــومـ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قراءة مستمرة في :-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بواب من رياض الصالحين   النو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رياض الصالحين مع شرحه نزهة المتق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مختصر صحيح مسلم            المنذ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حصن المسلم ( للحفظ )   القحطان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تيسير العلام شرح عمدة الأحك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توضيح الأحكام                  البس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اقتباس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ختيار الأولى شرح "اختصام الملأ الأعلى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شرح 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حديثاً من صحيح مسلم     العبا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اللهم بعلمك الغيب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هجة قلوب الأبرار  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سباب تعدد الروايات في الحديث   شرف القضا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(من سلك طريقا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حجة في سير الدلجة          ابن رجب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صية الصغرى                     ابن تيم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بر والصلة " من صحيح مسل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وفوائد من الأربعين النووية   ناظ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امع العلوم والحكم        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 جبريل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ضوابط مهمة لحسن فهم السنة    أبو أن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ءة أبواب من " المنتقى "    الجد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جر الكبير على العمل اليسير محمد خ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 يتبع الميت ثلاث )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عوة  إلى السنة في تطبيق السنة      الرحيل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طبة الحاجة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كم الجديرة بالإذاعة   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تي يعلم بها صدق الخبر  تحقيق الغن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نن مجهولة      عبد الإله بن سلم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كربة   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جامع الصغير للشيخ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حيح الكلم الطيب              الألب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حديث(ما ذئبان جائعان ) ابن ر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خفا ومزيل الإلباس للعجلو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أربعون النووية      بشرح ابن دقي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صطلح الحديث(للمتخصص)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يسير مصطلح الحديث (للمتخصص)   الطح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0800" y="1535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4280" y="-1420920"/>
            <a:ext cx="183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407880"/>
          <a:ext cx="8102520" cy="5992920"/>
        </p:xfrm>
        <a:graphic>
          <a:graphicData uri="http://schemas.openxmlformats.org/drawingml/2006/table">
            <a:tbl>
              <a:tblPr/>
              <a:tblGrid>
                <a:gridCol w="2521080"/>
                <a:gridCol w="2685960"/>
                <a:gridCol w="28954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 لعقيــد ة والـمذاهـــب المعاصــرة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ب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راءة متأنية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جامع الفريد     عبد الله الجار الل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ول السديد على كتاب التوح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تيسير العزيز الحميد         ش/ سليم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أصول الثلاثة 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لمعة الاعتقاد       ابن عثي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شرح الواسطية         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صحيحة وما يضادها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جيز في عقيدة السلف  عبد الله الأث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انطلاقة الكبرى              المصر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يامة الصغرى             الأشق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في البدع والسنن              الع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وضيح والبيان                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بودية           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رشاد إلى صحيح الاعتقاد        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سماء الله الحسنى          القحط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علام السنة المنشورة            الحكم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صراط المستقيم     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قاية الإنسان من الجن والشيطان   وح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لاء والعداء                   الطري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شراط الساعة                          الوا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 رسائل في العقيدة "      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تشبه بقوم فهو منهم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مثلى    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لامات النبوة                    الكل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الشرك الأصغر   العبد اللط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خلاص وأثره في قبول الأعمال      الطيا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قيدة الإسلامية      محمد زينو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" الحيدة "       عبدالعزيز المك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غلو في الدين في حياة المسلمين المعاصرة  اللويح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يمان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يقة الخلاف بين الشيعة وجمهور المسلمي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قيدة أهل السنة والجماعة      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إخلاص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شف الشبهات بشرحه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بيان شرح نوا قض الإسلام         العلو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ور التقوى  سعيد بن وهف القحطان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صر شعب الأيمان            القزوي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انية                        محمد الشري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شرح أصول الإيما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جز في الأديان والمذاهب   العقل+ القفا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الموسوعة الميسرة  في الأديان والمذاهب        الندو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يرة والقاديانية والبهائية والبابية والوجودية والشيوعية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وحيد الأسماء والصفات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يمان بالقضاء والقدر للشيخ محمد ال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555480"/>
          <a:ext cx="8381880" cy="5159520"/>
        </p:xfrm>
        <a:graphic>
          <a:graphicData uri="http://schemas.openxmlformats.org/drawingml/2006/table">
            <a:tbl>
              <a:tblPr/>
              <a:tblGrid>
                <a:gridCol w="2895480"/>
                <a:gridCol w="2971800"/>
                <a:gridCol w="25146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قــــه وأصـولــــه وقواعـــد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أ )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ختصر في شرح أركان الإسل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عند الحاجة أو في المواسم يقرأ في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ثلاث رسائل في الصلاة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القراءة من الملخص الفقهي  الفوز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الشرح الممتع           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ة وضوء النب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الشوي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فتاوى الشيخ العثيمين   جمع أشرف عبد المقصو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" فتاوى إسلامية "          جمع/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لاة الفجر وكيف نحافظ عليها   المنصو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صفة صلاة النبي               الأل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 مقاصد الشريعة الإسلامية           الرمّان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داب المشي إلى الصلاة      ش/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سباب الخلاف بين العلماء    ابن عثيم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الحج والعمرة  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،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همية صلاة الجماعة       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اظرات الفقهية    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لاة الجماعة                        السدل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صال الفطرة       جمع/ أم عبد الرحم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اب الصلاة وحكم تاركها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فع الملام عن الأئمة الأعلام   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مجلة الدعوة  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ل المبين في أخطاء المصلين   مشهو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حكام اليمين              خالد المشيق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)سؤالاً في أحكام الجنائز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ج عملي للمتفقهين      ع. قار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زاد المعاد     جزء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ام آداب وأحكام             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باحث في النية للعلي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فة المودود ل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قاء الباب المفتوح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جة النبي صلى الله عليه وسلم للألبان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ضايا اللهو والترفيه بين الحاجة النفسية والضوابط الشرعية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نهج لمريد العمرة والحج  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خصائص الجمعة من زاد المعاد ‏‏‏‏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ماع أشرطة بلوغ المرام               ابن ب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تاوى في المسح على الخفين    ابن عثيم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لاث صلوات مهجورة  (يقرأ إلى ص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رارات مجلس المجمع الفقهي   دورة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مخالفات الطهارة والصلاة  السدح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رآن المشهود   المرزو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رسالة في القواعد الفقهية           ال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سمية المولود بكر أبو ز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جر السفهاء عن تتبع رخص الفقها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الواضح في أصول الفقه (للمتخصص)  الأشقر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هج السالكين لابن 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قه السنة لسيد ساب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فقهية لابن سع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754200"/>
          <a:ext cx="8229600" cy="5341680"/>
        </p:xfrm>
        <a:graphic>
          <a:graphicData uri="http://schemas.openxmlformats.org/drawingml/2006/table">
            <a:tbl>
              <a:tblPr/>
              <a:tblGrid>
                <a:gridCol w="2819520"/>
                <a:gridCol w="2971800"/>
                <a:gridCol w="2438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لغـــــــــة والأد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واوين د . عبد الرحمن العشماوي الشعر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اريخ الأدب للزي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كامل في اللغة والأدب للمبر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لسلة "قصص من التاريخ "    الحمص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 إسلاماه باكثير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قه اللغة وأسرار العربية    أبي منصور الثعال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عدالة السماء      محمود خط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رة شجاع   باكثير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تجاهات الوطنية في الأدب     محمد حسي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ائدون إلى الله    محمد المسن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زمن القادم                     القاس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ات من أدب العرب             الندو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أين الله الحمص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ائر الأحمر باكثير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حسان بن ثابت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صص من الواقع   أبي القعقاع محم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وات الرهيبة             الصاغر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فوات النادرة                  محمد الصاب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اهد الصغير  حسن نائل جانا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قور القوقاز   ترجمة/ محمد حرب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ع البحرين                نصيف اليازج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كايات        إيمان السبا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هجرة من أفغانستان  مرال معرو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حسين القبيح وتقبيح الحسن          الثعالبي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غار الإخلاص  ضناوي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رض البطولات   الحمصي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متنبي شرح العكبري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لف لاتضيع ضناوي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ذكريات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ار وإيمان   ضناوي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قف طيار  القوز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دب العرب الهاشمي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ديث الشيخ   سليمان العبي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جال من التاريخ  علي الطنطا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ذاهب الأدب الغربي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الشافع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واهر الأدب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دائع الفوائد لابن القي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ملكة البيان للقر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واعد الأساسية للهاشم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ديوان أبي الطيب شرح البرقوق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ختار الصحاح للراز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بن قاسم على الآجرو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شرح ابن عقيل لألفية ابن مال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لاحظات مهمة في قراءة الكتب :-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مراعاة القدرة الذهنية ومدى استيعاب القارئ ومعرفة الخلفية التي لديه حين قراءته الكتاب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الاهتمام بالقراءة النقدية الواعية ومناقشة أهل الاختصاص فيما تشكل قراءته .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أهمية التنويع في القراءة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617400"/>
          <a:ext cx="8229600" cy="5646960"/>
        </p:xfrm>
        <a:graphic>
          <a:graphicData uri="http://schemas.openxmlformats.org/drawingml/2006/table">
            <a:tbl>
              <a:tblPr/>
              <a:tblGrid>
                <a:gridCol w="2819520"/>
                <a:gridCol w="3047760"/>
                <a:gridCol w="23623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ربيــــة  والفـكـــر والدعـــ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( ج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( ب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( أ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عالم الشخصية الإسلامية         الأشق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(أصوله ومصادره)  محمد الخرعا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وابط الشرعية لموقف المسلم من الفتن    آل الشي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بشائر  بنصرة الإسلام           الدوي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والعلماء                  الجزائ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لوك الاجتماعي              حسن أيو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 أخلاق الداعية                الشيخ سلمان العو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 صفات الداعية الرفق واللين   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حفة العراقية في أمراض القلوب     ابن تيم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قت عمار أو دمار  الهزاع + المطو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دد حياتك                     الغزا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هذيب مدارج السالكين         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قوق دعت إليها الفطرة ابن عثيمين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علم ضرورة شرعية               د. ناصر العم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قه في الدين                          العق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شحيذ الهمم إلى العلم            الشيبان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دعوة إلى الله     همام سع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صفحات من صبر العلماء            أبو غد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دعوة إلى الله وأخلاق الدعاة     ابن با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قتضاء العلم العمل    الخطيب البغداد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غاثة اللهفان من مصايد الشيطان   ابن الق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وسائل المفيدة الس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خلق المسلم محمد الغزالي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صول الحوار الندوة العالمية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نصيحة لإصلاح البيوت المنجد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كتب عبدالله  الخاط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فهوم تجديد الدين           بسطامي سع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سائل الثبات على دين الله        المنج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اشية الدروس المهمة (ابن باز)  أحمد الطويا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اقعنا المعاصر                     محمد قطب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نفائس الحلة في التآخي والخلة      الهزا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واعد في التعامل مع العلماء     اللويحق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فكر الإسلامي  المعاصر         غازي التوب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قراءة البدء والاستمرار            العتي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حرص على هداية الناس   فضل إله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ذهبية  الإسلامية          محسن عبد الحم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إلى الإسلام من جديد             الندو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نفاق آثاره ومفاهيمه        الدوسري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جذور الانحراف في الفكر الإسلامي    جما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لذة المناجاة                         الجم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طرق الجامعة للقراءة النافعة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سلام بين العلماء والحكام      عبد العزيز البدر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ثبات         محمد عقي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زكية النفوس   جمع/ أحمد فر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2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صوننا مهددة من داخلها      محمد حسين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02:57Z</dcterms:created>
  <dc:creator>Home</dc:creator>
  <dc:description/>
  <dc:language>en-US</dc:language>
  <cp:lastModifiedBy>Home</cp:lastModifiedBy>
  <dcterms:modified xsi:type="dcterms:W3CDTF">2005-09-06T22:49:04Z</dcterms:modified>
  <cp:revision>3</cp:revision>
  <dc:subject/>
  <dc:title>الشريحة 1</dc:title>
</cp:coreProperties>
</file>