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6C8-34C9-48A5-808C-B469A2F6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F6F-86CE-444F-988D-8A32AF9F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C72-8E39-4A45-9309-921475E4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FB6-3774-461E-8759-FD62DF68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8E05-29D8-47FF-BD7A-69208D45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A5CA-5588-4762-8BFC-A23CF11B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C1B8-F837-4F47-A344-28C008BF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6454-7B6E-42D3-885A-D97DF4D6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ECF2-2F97-44D1-97FA-525E62B4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CEB3-6F5A-4123-AE4A-D9BB1205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F174-D018-4D15-9BC4-64D37EF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42A-1A52-46EF-9086-EDECF2DF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5EB2-F0B8-4FB1-95B1-F261E78A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79CD-0196-45C6-9C60-9AF08DF8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FA70-09AB-42E0-B670-F7609378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F4F6-FB37-42D7-B12F-9E7D7C5A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C41B-1B23-490F-BF89-808BC4BF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400-B37B-4C63-8672-F155E91E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9A0-88CC-461F-8CED-F867ABC7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5D2-7985-4D9E-8887-947B3EB4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BC2-B084-4C67-ADCD-4FD5572A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8CF-B44A-440B-A250-D419D50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7F7-3D33-40CD-BC74-5ED57CE1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386-A0C6-4E62-B8AD-24C2BADB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E52D-D1B1-43B2-BA37-9151D0F13C22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BAD9-D335-4A02-ACD9-D397113DD151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&quot;Moonrise, Lake Powell, Utah&quot; © M.Webb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124080" y="5105520"/>
            <a:ext cx="3353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 u="sng">
                <a:solidFill>
                  <a:srgbClr val="ccffcc"/>
                </a:solidFill>
                <a:uFillTx/>
                <a:latin typeface="Times New Roman"/>
              </a:rPr>
              <a:t>أحمد العساف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ffcc"/>
                </a:solidFill>
                <a:uFillTx/>
                <a:latin typeface="Times New Roman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4952880" cy="2438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cc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ccffcc"/>
                </a:solidFill>
                <a:latin typeface="Times New Roman"/>
                <a:cs typeface="Arabic Transparent"/>
              </a:rPr>
              <a:t>المشكلات الإدارية </a:t>
            </a:r>
            <a:br>
              <a:rPr sz="5400"/>
            </a:br>
            <a:r>
              <a:rPr b="1" i="1" lang="ar-SA" sz="6000" spc="-1" strike="noStrike">
                <a:solidFill>
                  <a:srgbClr val="ccffcc"/>
                </a:solidFill>
                <a:latin typeface="Times New Roman"/>
                <a:cs typeface="Arabic Transparent"/>
              </a:rPr>
              <a:t>وكيفية</a:t>
            </a:r>
            <a:r>
              <a:rPr b="1" i="1" lang="ar-SA" sz="5400" spc="-1" strike="noStrike">
                <a:solidFill>
                  <a:srgbClr val="ccffcc"/>
                </a:solidFill>
                <a:latin typeface="Times New Roman"/>
                <a:ea typeface="Arabic Transparent"/>
              </a:rPr>
              <a:t> علاجها ؟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&quot;Thunderstorms over Santa Catalina Mountains, Tucson, Arizona&quot; © Kent Wood / Photo Research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4920" y="304920"/>
            <a:ext cx="8534160" cy="19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cc"/>
                </a:solidFill>
                <a:latin typeface="Times New Roman"/>
              </a:rPr>
              <a:t>أساليب التعامل مع المشاكل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&quot;Blue Bonnets, Texas Hill Country,  Marble Falls, Texas&quot; © David Dav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334120" y="5276880"/>
            <a:ext cx="3809880" cy="3056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99"/>
                </a:solidFill>
                <a:latin typeface="Times New Roman"/>
              </a:rPr>
              <a:t>أسباب عدم مواجهة المشكل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1" name="" descr="&quot;Sunset, Joshua Tree National Park, California&quot; © Kevin Powe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495320" y="838080"/>
            <a:ext cx="441972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ffd071"/>
                </a:solidFill>
                <a:latin typeface="Albertus Extra Bold"/>
                <a:cs typeface="Simplified Arabic"/>
              </a:rPr>
              <a:t>أخطاء في تحديد المشكلات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3640" y="-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971800" y="3123720"/>
            <a:ext cx="358128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6000"/>
          </a:bodyPr>
          <a:p>
            <a:pPr marL="260640" indent="0" algn="ctr" rtl="1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d071"/>
                </a:solidFill>
                <a:latin typeface="Albertus Extra Bold"/>
                <a:cs typeface="Simplified Arabic"/>
              </a:rPr>
              <a:t>أسلوب </a:t>
            </a:r>
            <a:endParaRPr b="0" lang="en-US" sz="68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0" algn="ctr" rtl="1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d071"/>
                </a:solidFill>
                <a:latin typeface="Albertus Extra Bold"/>
                <a:cs typeface="Simplified Arabic"/>
              </a:rPr>
              <a:t>كبنر-تريجو للتحديد</a:t>
            </a:r>
            <a:endParaRPr b="0" lang="en-US" sz="68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9" name="" descr="&quot;Dreaming of a White Christma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514600" y="1981080"/>
            <a:ext cx="2362320" cy="27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3e2c7"/>
            </a:outerShdw>
          </a:effectLst>
        </p:spPr>
        <p:txBody>
          <a:bodyPr anchor="ctr">
            <a:normAutofit fontScale="66000"/>
          </a:bodyPr>
          <a:p>
            <a:pPr indent="0" algn="ctr" rtl="1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800000"/>
                </a:solidFill>
                <a:latin typeface="Albertus Extra Bold"/>
                <a:cs typeface="Simplified Arabic"/>
              </a:rPr>
              <a:t>أدوات مهمة في حـــل المشاكل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" descr="&quot;Golden Peaks of Rundle Mountain, Banff National Park, Albert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914400" y="4952880"/>
            <a:ext cx="556272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a1d00"/>
            </a:outerShdw>
          </a:effectLst>
        </p:spPr>
        <p:txBody>
          <a:bodyPr anchor="ctr">
            <a:normAutofit fontScale="8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44f"/>
                </a:solidFill>
                <a:latin typeface="Times New Roman"/>
              </a:rPr>
              <a:t>من الذي يدعى لحل المشاكل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" descr="&quot;Japanese Bridge &amp; Pond, Charles Neal, 1998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0"/>
            <a:ext cx="9144000" cy="1801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edc7da"/>
                </a:solidFill>
                <a:latin typeface="Albertus Extra Bold"/>
                <a:cs typeface="Simplified Arabic"/>
              </a:rPr>
              <a:t>سلبيات وإيجابيات الحل الجماعي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" descr="&quot;Boulders, Stoddard, Alice Ken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04920" y="304920"/>
            <a:ext cx="5943600" cy="292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200" spc="-1" strike="noStrike">
                <a:solidFill>
                  <a:srgbClr val="c08e00"/>
                </a:solidFill>
                <a:latin typeface="Albertus Extra Bold"/>
                <a:cs typeface="Simplified Arabic"/>
              </a:rPr>
              <a:t>أسباب الفشل في حل المشكلات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&quot;Stepping Stones, Yonkers, New York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990360" y="5257800"/>
            <a:ext cx="74674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5000"/>
          </a:bodyPr>
          <a:p>
            <a:pPr marL="257040" indent="0" algn="ctr" rtl="1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9900"/>
                </a:solidFill>
                <a:latin typeface="Albertus Extra Bold"/>
                <a:cs typeface="Simplified Arabic"/>
              </a:rPr>
              <a:t>أهمية المعلومات لحل المشاكل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9" name="" descr="&quot;Silver Falls, Oregon&quot; © Wood Sabo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971800" y="1828800"/>
            <a:ext cx="41148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أدوات تحليل المشكلات.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&quot;Canadian Rockies, Banff National Park, Alberta&quot; © Larry Car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477120" y="-360"/>
            <a:ext cx="2666880" cy="21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00"/>
            </a:outerShdw>
          </a:effectLst>
        </p:spPr>
        <p:txBody>
          <a:bodyPr anchor="t">
            <a:noAutofit/>
          </a:bodyPr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cc99"/>
                </a:solidFill>
                <a:uFillTx/>
                <a:latin typeface="Times New Roman"/>
                <a:cs typeface="Simplified Arabic"/>
              </a:rPr>
              <a:t>المكـان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cc99"/>
                </a:solidFill>
                <a:uFillTx/>
                <a:latin typeface="Times New Roman"/>
                <a:cs typeface="Simplified Arabic"/>
              </a:rPr>
              <a:t>الزمـان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cc99"/>
                </a:solidFill>
                <a:uFillTx/>
                <a:latin typeface="Times New Roman"/>
                <a:cs typeface="Simplified Arabic"/>
              </a:rPr>
              <a:t>الـمـدة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960" y="66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752480"/>
            <a:ext cx="3429000" cy="53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562b00"/>
                </a:solidFill>
                <a:latin typeface="Albertus Extra Bold"/>
                <a:cs typeface="Simplified Arabic"/>
              </a:rPr>
              <a:t>خطوات تحليل المشكلات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9" name="" descr="&quot;Cayo Levantado, Dominican Republic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943600" y="457200"/>
            <a:ext cx="279072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000" spc="-1" strike="noStrike">
                <a:solidFill>
                  <a:srgbClr val="d8d6b0"/>
                </a:solidFill>
                <a:latin typeface="Albertus Extra Bold"/>
                <a:cs typeface="Simplified Arabic"/>
              </a:rPr>
              <a:t>هل وجود المشكلات يعد مشكلة؟</a:t>
            </a:r>
            <a:endParaRPr b="0" lang="en-US" sz="5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&quot;Waning Rays of Ligh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42568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cc66"/>
                </a:solidFill>
                <a:uFillTx/>
                <a:latin typeface="Times New Roman"/>
              </a:rPr>
              <a:t>تساؤلات ؟ 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388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cc66"/>
                </a:solidFill>
                <a:latin typeface="Times New Roman"/>
                <a:ea typeface="Traditional Arabic"/>
              </a:rPr>
              <a:t> ماهو آخر كتاب قرأته في الإدارة ؟ ومتى 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r" rtl="1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cc66"/>
                </a:solidFill>
                <a:latin typeface="Times New Roman"/>
                <a:ea typeface="Traditional Arabic"/>
              </a:rPr>
              <a:t> ماهي آخر دورة إدارية حضرتها ؟ ومتى 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r" rtl="1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cc66"/>
                </a:solidFill>
                <a:latin typeface="Times New Roman"/>
                <a:ea typeface="Traditional Arabic"/>
              </a:rPr>
              <a:t> ماذا تتوقع أن تسمع هذا اليوم 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This picture was taken from the same spot at the previous one (ie the motu north of Le Meridien) but looks north instead of south. Note the table &amp; umbrella sitting out in about 2 feet of water off in the distance - I believe this is where guests at the Bora Bora Lagoon Resort who book a private motu dinner are taken for a wonderful exotic meal (I saw a posting about it once at the www.tahiti-explorer.com website). If you exercise the &quot;View Full Size&quot; option you can see the BBQ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0" y="2438280"/>
            <a:ext cx="4952880" cy="335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cc99"/>
            </a:outerShdw>
          </a:effectLst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c4a00"/>
                </a:solidFill>
                <a:latin typeface="Albertus Extra Bold"/>
                <a:cs typeface="Simplified Arabic"/>
              </a:rPr>
              <a:t>ماهو الهدف من طرحه 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c4a00"/>
                </a:solidFill>
                <a:latin typeface="Albertus Extra Bold"/>
                <a:cs typeface="Simplified Arabic"/>
              </a:rPr>
              <a:t>تعريف المشكل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c4a00"/>
                </a:solidFill>
                <a:latin typeface="Albertus Extra Bold"/>
                <a:cs typeface="Simplified Arabic"/>
              </a:rPr>
              <a:t>أنواع المشاكل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5409720" y="4190760"/>
            <a:ext cx="350532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c4a00"/>
                </a:solidFill>
                <a:latin typeface="Times New Roman"/>
              </a:rPr>
              <a:t>عناصر الموضوع</a:t>
            </a:r>
            <a:r>
              <a:rPr b="1" lang="ar-SA" sz="7200" spc="-1" strike="noStrike">
                <a:solidFill>
                  <a:srgbClr val="4c4a00"/>
                </a:solidFill>
                <a:latin typeface="Times New Roman"/>
              </a:rPr>
              <a:t>: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cc"/>
            </a:outerShdw>
          </a:effectLst>
        </p:spPr>
        <p:txBody>
          <a:bodyPr anchor="ctr">
            <a:normAutofit fontScale="67000"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444466"/>
                </a:solidFill>
                <a:latin typeface="Times New Roman"/>
              </a:rPr>
              <a:t>مقدمات مهمة عن المشكلات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0880" y="335268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993366"/>
                </a:solidFill>
                <a:latin typeface="Albertus Extra Bold"/>
                <a:cs typeface="Simplified Arabic"/>
              </a:rPr>
              <a:t>المشكلة ..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993366"/>
                </a:solidFill>
                <a:latin typeface="Albertus Extra Bold"/>
                <a:cs typeface="Simplified Arabic"/>
              </a:rPr>
              <a:t>فرصة ثمينة !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&quot;Autumn Splendor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562720" y="1600200"/>
            <a:ext cx="289548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كيف تدرك المشكلة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&quot;Sunrise on Sanibel Beach, Florida&quot; © Mike Bri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rmAutofit fontScale="83000"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85ae"/>
                </a:solidFill>
                <a:latin typeface="Times New Roman"/>
              </a:rPr>
              <a:t>حال الناس مع المشاكل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" descr="&quot;Guam in the Evening&quot; © Sea to Sky Produ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943600" y="228240"/>
            <a:ext cx="32004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0000"/>
          </a:bodyPr>
          <a:p>
            <a:pPr marL="24012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b549"/>
                </a:solidFill>
                <a:latin typeface="Times New Roman"/>
              </a:rPr>
              <a:t>أسئلة مهمة عند تحديد المشكلات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4:10:11Z</dcterms:created>
  <dc:creator> </dc:creator>
  <dc:description/>
  <dc:language>en-US</dc:language>
  <cp:lastModifiedBy>الرئيسي</cp:lastModifiedBy>
  <dcterms:modified xsi:type="dcterms:W3CDTF">2003-07-23T22:28:20Z</dcterms:modified>
  <cp:revision>170</cp:revision>
  <dc:subject/>
  <dc:title>المشكلات الإدارية وكيفية علاجها ؟</dc:title>
</cp:coreProperties>
</file>