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7.jpeg" ContentType="image/jpeg"/>
  <Override PartName="/ppt/media/image3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6D1-DB22-404E-AD23-31AA823C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139-4DA2-4542-908A-03B1420C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C31-4FAD-4002-82FB-18C1D5A9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FB6-DCF5-4197-AFC7-A0CCC2BB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30C5-A41C-4FCF-83E0-FD60E937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950-D7CF-48A7-B82C-C7A85F69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2E4B-E82B-4E22-B14C-9FF2A242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8A6D-501F-4C5A-8E3C-2815C97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3481-D7A9-4026-A41D-EE106C31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58A-FDD7-4D61-8649-C42445BF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06E-4CB2-4213-AE6C-86F0D97A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240-F58B-43E6-A6D4-0BF1B0CF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2BDF-EF19-4D36-95BD-330ED857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3F8C-2B48-4CDD-8552-3A21D91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9CAF-BD96-4049-889C-6E3B21D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6FE7-553B-45A8-97F2-108CEF39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AE81-C972-4132-96BE-775785C9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9CF-9E33-4C7F-9E0A-73F38D1F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446-B643-428D-9C7A-629900A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ABE-3D34-4BC1-80B1-643D9053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623-05E5-4473-94E0-219B481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8C4-E596-433B-BE06-AF10270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6FB-DE59-4E0B-BEDC-958998D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922-9518-411E-AC6E-E38498BC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A15F-4A6F-4D0C-B7D2-68374F376071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FE0-DECF-46BE-A84A-082CB34A3D21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rumps.com/html/minnetonka_hats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frumps.com/html/minnetonka_hats.htm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frumps.com/html/minnetonka_hats.html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frumps.com/html/minnetonka_hats.html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www.frumps.com/html/minnetonka_hats.html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www.frumps.com/html/minnetonka_hats.html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&quot;Tokyo, Japan at Nigh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ff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000066"/>
                </a:solidFill>
                <a:latin typeface="Times New Roman"/>
                <a:cs typeface="MCS SILVER"/>
              </a:rPr>
              <a:t>أسلوب كبنر- تريجو لتحديد وتعريف المشكلات :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3200400"/>
            <a:ext cx="670572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هي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أين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هي السمات المميزة ل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ذا ومن تعني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تى حدثت / تحدث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&quot;Douglas Family Preserve, Santa Barbara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95120" y="5029200"/>
            <a:ext cx="40388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t">
            <a:normAutofit fontScale="87000"/>
          </a:bodyPr>
          <a:p>
            <a:pPr marL="298440" indent="0" algn="ctr" rtl="1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اختيار أفضل الحلول المقترح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&quot;Keukenhof, Hol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86400" y="3123720"/>
            <a:ext cx="36576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t">
            <a:normAutofit fontScale="69000"/>
          </a:bodyPr>
          <a:p>
            <a:pPr marL="236520" indent="0" algn="ctr" rtl="1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a5f"/>
                </a:solidFill>
                <a:latin typeface="Times New Roman"/>
                <a:ea typeface="MCS SILVER"/>
              </a:rPr>
              <a:t> مشاركة عدة مستويات إدار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" descr="&quot;Practice Makes Perfect, Afric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2514600" cy="312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إغفال تسجيل الأفكار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5867280" y="0"/>
            <a:ext cx="3276720" cy="2362320"/>
          </a:xfrm>
          <a:prstGeom prst="rect">
            <a:avLst/>
          </a:prstGeom>
          <a:gradFill rotWithShape="0">
            <a:gsLst>
              <a:gs pos="0">
                <a:srgbClr val="00050a"/>
              </a:gs>
              <a:gs pos="100000">
                <a:srgbClr val="003366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ccff"/>
                </a:solidFill>
                <a:latin typeface="Times New Roman"/>
              </a:rPr>
              <a:t>السلبيّـــات 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1" name="" descr="&quot;The Domino Effect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914400"/>
          </a:xfrm>
          <a:prstGeom prst="rect">
            <a:avLst/>
          </a:prstGeom>
          <a:solidFill>
            <a:srgbClr val="ffdab5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160b00"/>
            </a:outerShdw>
          </a:effectLst>
        </p:spPr>
        <p:txBody>
          <a:bodyPr anchor="t">
            <a:normAutofit fontScale="56000"/>
          </a:bodyPr>
          <a:p>
            <a:pPr marL="191880" indent="0" algn="ctr" rtl="1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التنافس المنفر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" descr="&quot;Bridge on the River Rhone,  Avignon, Vaucluse, Franc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523880" y="838080"/>
            <a:ext cx="6248520" cy="205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fdf"/>
                </a:solidFill>
                <a:latin typeface="Times New Roman"/>
                <a:cs typeface="MCS SILVER"/>
              </a:rPr>
              <a:t>المواكبة والمجارا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fdf"/>
                </a:solidFill>
                <a:latin typeface="Times New Roman"/>
                <a:ea typeface="MCS SILVER"/>
              </a:rPr>
              <a:t> الافتقار إلى التوجيه الموضوعي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" descr="&quot;Do You Have the Time? St. Stephen's Tower, London, Eng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95816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ecff"/>
                </a:solidFill>
                <a:latin typeface="Times New Roman"/>
                <a:ea typeface="MCS SILVER"/>
              </a:rPr>
              <a:t> المقيدات الزما نية والمكانية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41148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411480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1148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44792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MCS SILVER"/>
              </a:rPr>
              <a:t> سيطرة طريقة تفكير الرئيس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MCS SILVER"/>
              </a:rPr>
              <a:t>(القبعات الست)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2" name="" descr="&quot;The Vivash Fire, New Mexico&quot; © Michael Clar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-1711800" y="5638680"/>
            <a:ext cx="12538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5eaff"/>
                </a:solidFill>
                <a:latin typeface="Times New Roman"/>
                <a:cs typeface="MCS SILVER"/>
              </a:rPr>
              <a:t>عدم اتباع المنهجية في تحديد وحل المشكلات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9200" y="1981080"/>
            <a:ext cx="38736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سباب الفشل في حل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&quot;Life Springs Forth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80880" y="4648320"/>
            <a:ext cx="8534520" cy="15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0000"/>
                </a:solidFill>
                <a:latin typeface="Times New Roman"/>
                <a:cs typeface="MCS SILVER"/>
              </a:rPr>
              <a:t>وضع المشكلة خارج نطاقها الحقيقي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&quot;A Ray of Light, VilleFranche, France&quot; © Don Paul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acff"/>
                </a:solidFill>
                <a:latin typeface="Times New Roman"/>
                <a:cs typeface="MCS SILVER"/>
              </a:rPr>
              <a:t>نقص المعلومات أو التحليل السيئ للمشكل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&quot;Redwoods and Sequoias&quot; © Robert Marien /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19360" y="5562720"/>
            <a:ext cx="4724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CS SILVER"/>
              </a:rPr>
              <a:t>ما الذي يبقى ثابتاً   ؟ وما الذي يتغير 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CS SILVER"/>
              </a:rPr>
              <a:t>هل المشكلة تكبر أم تصغر 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3652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3366"/>
                </a:solidFill>
                <a:latin typeface="Times New Roman"/>
                <a:cs typeface="MCS SILVER"/>
              </a:rPr>
              <a:t>ماهو الشيء المميز عند تغير حجمها 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" descr="&quot;Above the Clouds, Mt. Shasta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1920" y="4723920"/>
            <a:ext cx="899172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72000"/>
          </a:bodyPr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استخدام نوع واحد من التفكير (طريقة القبعات الست)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غياب أو تحجيم مشاركة الأطراف المعنية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الخوف من الفشل ومن التجديد ومن تبادل الأفكار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7378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ff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أسباب الفشل في حل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6" name="" descr="&quot;Wet Daisi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486400" y="609480"/>
            <a:ext cx="3200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MCS SILVER"/>
              </a:rPr>
              <a:t>مقاومة التغيير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0" name="" descr="&quot;Sand Dunes, Central Afric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1080" y="5411880"/>
            <a:ext cx="183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2514600"/>
            <a:ext cx="3759120" cy="250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3f4ff"/>
                </a:solidFill>
                <a:latin typeface="Times New Roman"/>
                <a:cs typeface="MCS SILVER"/>
              </a:rPr>
              <a:t>التوقف عن التنفيذ أو ترك المتابعة والتقوي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&quot;La Digue Islands, Seychell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txBody>
          <a:bodyPr anchor="t">
            <a:normAutofit fontScale="76000"/>
          </a:bodyPr>
          <a:p>
            <a:pPr marL="260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9aa"/>
                </a:solidFill>
                <a:latin typeface="Times New Roman"/>
                <a:ea typeface="MCS SILVER"/>
              </a:rPr>
              <a:t> المعلومات مهمة لحل المشاكل إذ المعلومة قوة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9aa"/>
                </a:solidFill>
                <a:latin typeface="Times New Roman"/>
                <a:ea typeface="MCS SILVER"/>
              </a:rPr>
              <a:t> لا بد أن يكون للمعلومة صلة بالموضوع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85800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أهمية المعلومات لحل المشكلات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" descr="&quot;On Tim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5562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68000"/>
          </a:bodyPr>
          <a:p>
            <a:pPr marL="2332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ea typeface="MCS SILVER"/>
              </a:rPr>
              <a:t> توقيت الحصول على المعلومة مه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&quot;Candle Glow&quot; © Samuel Veta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09640" y="4876560"/>
            <a:ext cx="7958160" cy="19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MCS SILVER"/>
              </a:rPr>
              <a:t>يجب أن تكون المعلومات دقيق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شرعية طريقة الحصول على المعلوم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لابد من التعامل بكفاءة مع المعلوم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7111"/>
                </a:solidFill>
                <a:latin typeface="Times New Roman"/>
                <a:cs typeface="MCS SILVER"/>
              </a:rPr>
              <a:t>أهمية المعلومات لحل المشكلات</a:t>
            </a:r>
            <a:r>
              <a:rPr b="1" lang="ar-SA" sz="5400" spc="-1" strike="noStrike">
                <a:solidFill>
                  <a:srgbClr val="ff7111"/>
                </a:solidFill>
                <a:latin typeface="Times New Roman"/>
                <a:ea typeface="MCS SILVER"/>
              </a:rPr>
              <a:t> </a:t>
            </a:r>
            <a:r>
              <a:rPr b="1" lang="ar-SA" sz="5400" spc="-1" strike="noStrike">
                <a:solidFill>
                  <a:srgbClr val="ff7111"/>
                </a:solidFill>
                <a:latin typeface="Times New Roman"/>
                <a:ea typeface="MCS SILVER"/>
              </a:rPr>
              <a:t>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&quot;Brilliant Display, Interfirst Plaza, Houston, Texa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3760" y="228240"/>
            <a:ext cx="3809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ffcc66"/>
                </a:solidFill>
                <a:latin typeface="Times New Roman"/>
                <a:cs typeface="MCS SILVER"/>
              </a:rPr>
              <a:t>أنواع المعلومات: </a:t>
            </a:r>
            <a:endParaRPr b="0" lang="en-US" sz="5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48006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t">
            <a:normAutofit fontScale="73000"/>
          </a:bodyPr>
          <a:p>
            <a:pPr marL="25020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بيانات الاولية والثانوية والتاريخ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" descr="&quot;North Cascades in Autumn, Mount Baker, Washington&quot; © Sharon Gerig /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66520" y="22860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99"/>
            </a:outerShdw>
          </a:effectLst>
        </p:spPr>
        <p:txBody>
          <a:bodyPr anchor="t">
            <a:normAutofit fontScale="69000"/>
          </a:bodyPr>
          <a:p>
            <a:pPr marL="2365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imes New Roman"/>
              </a:rPr>
              <a:t> البيانات الوصفية والكم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1" name="" descr="&quot;Voyager 1 Image of Saturn&quot; © Courtesy of NA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57200" y="2362320"/>
            <a:ext cx="43434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التنبؤات والتوقعات واستشراف المستقبل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دوات تحليل المعلوم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1640" y="3276360"/>
            <a:ext cx="4148280" cy="32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سمكة إشيكاوا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خرائط الزمن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الاستبيانات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r" rtl="1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&quot;Winter Haven, Germany&quot; © Allsport Photography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سلوب كبنر- تريجو لتحديد وتعريف المشكلات :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438280"/>
            <a:ext cx="7958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هو ا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أين ا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هي السمات المميزة ل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ذا ومن لا تعنيه المشكلة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تى لا تحدث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وما الذي يختلف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066680" y="3581280"/>
            <a:ext cx="1752840" cy="13716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اسم</a:t>
            </a: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المشكل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19160" y="4343400"/>
            <a:ext cx="556236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038480" y="3352680"/>
            <a:ext cx="1143000" cy="9907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4343400"/>
            <a:ext cx="1219320" cy="7621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19920" y="3352680"/>
            <a:ext cx="1143000" cy="9907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4343400"/>
            <a:ext cx="1143000" cy="7621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800" spc="-1" strike="noStrike">
                <a:solidFill>
                  <a:srgbClr val="00254a"/>
                </a:solidFill>
                <a:latin typeface="Times New Roman"/>
                <a:cs typeface="MCS SILVER"/>
              </a:rPr>
              <a:t>سمكة إشيكاوا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1905120" y="2514600"/>
          <a:ext cx="5814720" cy="388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514600"/>
                    <a:ext cx="58147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124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99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ccffff"/>
                </a:solidFill>
                <a:latin typeface="Times New Roman"/>
                <a:cs typeface="MCS SILVER"/>
              </a:rPr>
              <a:t>خرائط الزمن 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76520" y="2666880"/>
            <a:ext cx="380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6616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9456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9892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Times New Roman"/>
              </a:rPr>
              <a:t>                                                                     </a:t>
            </a: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الإنجاز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الزمن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752480" y="6553080"/>
            <a:ext cx="6400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2895480"/>
            <a:ext cx="6019920" cy="3657600"/>
          </a:xfrm>
          <a:custGeom>
            <a:avLst/>
            <a:gdLst/>
            <a:ahLst/>
            <a:rect l="l" t="t" r="r" b="b"/>
            <a:pathLst>
              <a:path w="2448" h="1968">
                <a:moveTo>
                  <a:pt x="0" y="1968"/>
                </a:moveTo>
                <a:cubicBezTo>
                  <a:pt x="64" y="1828"/>
                  <a:pt x="128" y="1688"/>
                  <a:pt x="192" y="1584"/>
                </a:cubicBezTo>
                <a:cubicBezTo>
                  <a:pt x="256" y="1480"/>
                  <a:pt x="328" y="1432"/>
                  <a:pt x="384" y="1344"/>
                </a:cubicBezTo>
                <a:cubicBezTo>
                  <a:pt x="440" y="1256"/>
                  <a:pt x="472" y="1176"/>
                  <a:pt x="528" y="1056"/>
                </a:cubicBezTo>
                <a:cubicBezTo>
                  <a:pt x="584" y="936"/>
                  <a:pt x="616" y="784"/>
                  <a:pt x="720" y="624"/>
                </a:cubicBezTo>
                <a:cubicBezTo>
                  <a:pt x="824" y="464"/>
                  <a:pt x="1016" y="192"/>
                  <a:pt x="1152" y="96"/>
                </a:cubicBezTo>
                <a:cubicBezTo>
                  <a:pt x="1288" y="0"/>
                  <a:pt x="1408" y="40"/>
                  <a:pt x="1536" y="48"/>
                </a:cubicBezTo>
                <a:cubicBezTo>
                  <a:pt x="1664" y="56"/>
                  <a:pt x="1832" y="88"/>
                  <a:pt x="1920" y="144"/>
                </a:cubicBezTo>
                <a:cubicBezTo>
                  <a:pt x="2008" y="200"/>
                  <a:pt x="2016" y="304"/>
                  <a:pt x="2064" y="384"/>
                </a:cubicBezTo>
                <a:cubicBezTo>
                  <a:pt x="2112" y="464"/>
                  <a:pt x="2160" y="560"/>
                  <a:pt x="2208" y="624"/>
                </a:cubicBezTo>
                <a:cubicBezTo>
                  <a:pt x="2256" y="688"/>
                  <a:pt x="2320" y="736"/>
                  <a:pt x="2352" y="768"/>
                </a:cubicBezTo>
                <a:cubicBezTo>
                  <a:pt x="2384" y="800"/>
                  <a:pt x="2384" y="800"/>
                  <a:pt x="2400" y="816"/>
                </a:cubicBezTo>
                <a:cubicBezTo>
                  <a:pt x="2416" y="832"/>
                  <a:pt x="2432" y="856"/>
                  <a:pt x="2448" y="864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52480" y="2285640"/>
            <a:ext cx="0" cy="426708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خرائط الزمن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2" name="" descr="&quot;Sharp Edges&quot; © Rob Pe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5486400"/>
            <a:ext cx="8568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00"/>
            </a:outerShdw>
          </a:effectLst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4938840"/>
            <a:ext cx="8697960" cy="24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تعريف المشكلة وتمييزها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تحليل المشكلة : أسبابها ؛ .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5228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66"/>
                </a:solidFill>
                <a:latin typeface="Times New Roman"/>
              </a:rPr>
              <a:t>خطوات تحليل المشكلة: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7" name="" descr="&quot;Awesome Spectacl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572000" y="152280"/>
            <a:ext cx="457200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إعداد قائمة بالحلول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-1096200" y="228600"/>
            <a:ext cx="7338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(طريقة العصف الذهني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2" name="" descr="&quot;Radiating Ripples&quot; © Hermann Eisenbeiss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85000"/>
          </a:bodyPr>
          <a:p>
            <a:pPr marL="291600"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MCS SILVER"/>
              </a:rPr>
              <a:t> تقييم الحلول (حسب المعايير)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5" name="" descr="&quot;Country Road through Cades Cove, Great Smoky Mountains, Tennessee&quot; © David Dav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819160" y="3047760"/>
            <a:ext cx="51814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txBody>
          <a:bodyPr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اتخاذ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  القرار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  ووضـــع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خـــــطــــــة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للتــنــــفـــيـــ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838080"/>
            <a:ext cx="7378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خطوات تحليل المشكلات 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2" name="" descr="&quot;South Pacific Sunset, Pohnpei&quot; © Sea to Sky Produ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038480" y="457200"/>
            <a:ext cx="43671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99"/>
                </a:solidFill>
                <a:latin typeface="Times New Roman"/>
                <a:ea typeface="MCS SILVER"/>
              </a:rPr>
              <a:t> المتابعة والتقيي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762120" y="3580920"/>
            <a:ext cx="7958160" cy="266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ff"/>
            </a:outerShdw>
          </a:effectLst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هل وجود المشكلات .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يعد مؤشراً سلبياً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على العمل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ff6699"/>
                </a:solidFill>
                <a:latin typeface="Times New Roman"/>
                <a:cs typeface="MCS SILVER"/>
              </a:rPr>
              <a:t>هل وجود المشكلات يعد مشكلة ؟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8" name="" descr="&quot;Afternoon Offshores, Hermosa Beach, California&quot; © Ron Romano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518148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80000"/>
          </a:bodyPr>
          <a:p>
            <a:pPr marL="2743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مجرد وجود المشكلات أمر طبيعي ويدل على وجود عمل له خاصية التفاعل والاستمرارية والتجديد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620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9999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009999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009999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&quot;West Highlands, Scot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28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t">
            <a:norm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02000"/>
                </a:solidFill>
                <a:latin typeface="Times New Roman"/>
                <a:ea typeface="MCS SILVER"/>
              </a:rPr>
              <a:t> أين توضع هذه الأدوات ؟؟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02000"/>
                </a:solidFill>
                <a:latin typeface="Times New Roman"/>
                <a:ea typeface="MCS SILVER"/>
              </a:rPr>
              <a:t> الأدوات هي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572000"/>
            <a:ext cx="7729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MCS SILVER"/>
              </a:rPr>
              <a:t>من؟ ماذا؟ أين؟ متى؟ كم؟ كيف؟ لماذا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837720" y="380520"/>
            <a:ext cx="7378920" cy="155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MCS SILVER"/>
              </a:rPr>
              <a:t>أدوات مهمة في حل المشكلات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&quot;Paper Birch, White Mountains, New Hampshir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5607000"/>
            <a:ext cx="9144000" cy="1831680"/>
          </a:xfrm>
          <a:prstGeom prst="rect">
            <a:avLst/>
          </a:prstGeom>
          <a:solidFill>
            <a:srgbClr val="e3e2c7"/>
          </a:solidFill>
          <a:ln w="9360">
            <a:solidFill>
              <a:srgbClr val="3366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336600"/>
                </a:solidFill>
                <a:latin typeface="Albertus Extra Bold"/>
                <a:cs typeface="Simplified Arabic"/>
              </a:rPr>
              <a:t>إذا كانت المشكلات كثيرة بدرجة لافتة للنظر فهذا يدل على وجود خلل في جهة ما .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0504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cc99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cccc99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cccc99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&quot;La Jolla, Torrey Pines, San Diego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2280" y="3733920"/>
            <a:ext cx="48006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0a500"/>
                </a:solidFill>
                <a:latin typeface="Times New Roman"/>
                <a:cs typeface="MCS SILVER"/>
              </a:rPr>
              <a:t>انتفاء المشاكل كلية يدل على انتفاء أصل العمل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0a500"/>
                </a:solidFill>
                <a:latin typeface="Times New Roman"/>
                <a:cs typeface="MCS SILVER"/>
              </a:rPr>
              <a:t>أو ضعف المتابعة والتقيي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0504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003366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003366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&quot;Tahquamenon Falls, Michigan&quot; © American Stoc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819520" y="3200400"/>
            <a:ext cx="632448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aeaea"/>
            </a:outerShdw>
          </a:effectLst>
        </p:spPr>
        <p:txBody>
          <a:bodyPr anchor="t">
            <a:normAutofit fontScale="88000"/>
          </a:bodyPr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cs typeface="MCS SILVER"/>
              </a:rPr>
              <a:t>إن العلم يهتف بالعمل.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ea typeface="MCS SILVER"/>
              </a:rPr>
              <a:t> فإن أجابه.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ea typeface="MCS SILVER"/>
              </a:rPr>
              <a:t> وإلاَّ ارتحل 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0069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cs typeface="MCS SILVER"/>
              </a:rPr>
              <a:t>وأخيراً</a:t>
            </a: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ea typeface="MCS SILVER"/>
              </a:rPr>
              <a:t> </a:t>
            </a: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ea typeface="MCS SILVER"/>
              </a:rPr>
              <a:t>: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&quot;Magnetic Island National Park, North Queensland, Austral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981080" y="3276720"/>
            <a:ext cx="693432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الرياض: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11643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ص.ب: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91973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hm_assaf@islamway.n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hm_assaf@yahoo.co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eaeaea"/>
                </a:solidFill>
                <a:latin typeface="Times New Roman"/>
                <a:cs typeface="MCS SILVER"/>
              </a:rPr>
              <a:t>العنوان البريدي :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4" name="" descr="&quot;Lanikai Beach, Oahu, Hawaii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7958160" cy="304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99"/>
            </a:outerShdw>
          </a:effectLst>
        </p:spPr>
        <p:txBody>
          <a:bodyPr anchor="t">
            <a:normAutofit fontScale="81000"/>
          </a:bodyPr>
          <a:p>
            <a:pPr marL="277560" indent="0" algn="ctr" rtl="1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شكراً جزيلاً لحسن استماعكم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e3e2c7"/>
                </a:solidFill>
                <a:latin typeface="Times New Roman"/>
                <a:cs typeface="MCS SILVER"/>
              </a:rPr>
              <a:t>وشكراًً لمصمم الشرائح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بمهارة   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&quot;Lord Howe Island, Austral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2000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لديه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معلومات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عن المشكلة وأطرافها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صاحب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خبرة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للمشورة والرأي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جيد 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التدريب والمهارة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ملتزم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بالتنفيذ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من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يراد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تدريبه وتهيئته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2000"/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من الذي يدعى لحل المشاكل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لا بد أن تتوافر فيمن يحضر جلسات مناقشة المشاكل وحلها صفة أو أكثر مما يلي 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&quot;Burning Candl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3366"/>
                </a:solidFill>
                <a:latin typeface="Times New Roman"/>
              </a:rPr>
              <a:t>الحل الجماعي 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2666880"/>
            <a:ext cx="609624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إيجابيــات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و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سلبيــات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&quot;California Poppies, Siskiyou Mountains, near Ashland, Oregon&quot; © Scott Harding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590560" y="2133360"/>
            <a:ext cx="655308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imes New Roman"/>
                <a:ea typeface="MCS SILVER"/>
              </a:rPr>
              <a:t> تنوع الأفكار وتلاقحه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imes New Roman"/>
                <a:ea typeface="MCS SILVER"/>
              </a:rPr>
              <a:t> تعدد مصادر المعلوم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5346720" y="-360"/>
            <a:ext cx="379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3366"/>
                </a:solidFill>
                <a:latin typeface="Times New Roman"/>
              </a:rPr>
              <a:t>الإيجابيّات: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&quot;Fall Garden, Poulsbo, Washington&quot; © Don Paul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4800600"/>
            <a:ext cx="795816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77000"/>
          </a:bodyPr>
          <a:p>
            <a:pPr marL="263880"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أقل تحيزا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3880"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فرصة للتواصل والتدري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" descr="&quot;Pilot Mountain, North Carolina&quot; © Will &amp; Deni McIntyre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4920" y="533520"/>
            <a:ext cx="3429000" cy="274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التزام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عالي بالأداء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3:11:25Z</dcterms:modified>
  <cp:revision>171</cp:revision>
  <dc:subject/>
  <dc:title>المشكلات الإدارية وكيفية علاجها ؟</dc:title>
</cp:coreProperties>
</file>