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0CD-370F-4C24-8674-BAAFC13F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B19-78DA-43A9-9E9B-F4067398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F51-D8E5-4C88-A72D-1EB62F3F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538-A8B4-4403-BC71-93D1169B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7A4-7F57-443A-9EA8-C30B1005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CBB7-2DFE-4519-AFA4-1E3B55F7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4662-5675-4FD1-9942-ABE060B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B35-B796-44FB-B147-BD41ED8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8D03-7586-41F4-8E52-D7A2268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4822-3886-48A2-9A86-A1B5E561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2778-B257-424C-B7F9-47EBF85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CC0-F3A1-433D-B93F-BF675A3D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F4F8-4582-4CED-ABA4-6ECF628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CF93-1E6D-4CF2-B279-0633F40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21FB-5797-40B4-9E8E-7BC5DB05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D3C6-66AB-4717-891A-9AEE3F38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D6B0-BDE4-4564-B945-FEC4D274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189-401E-44F0-B9C9-B9534566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C07-055D-4F3D-BAC9-1233758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330-695A-4247-83F6-C3A6893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FF0-2B3A-4CC7-BEE7-7698758F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167-93DC-4AFF-8D71-B8C89B6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DC7-B59B-4719-9016-2C737F2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AC3-BDB8-4C3C-B6B3-2B679DAC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66B8-5A56-427E-B742-120491B847EE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A77-60B8-4200-91C4-ECBF763CD5DB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383-sh/2630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&quot;Rest Area, Tourist Route, Outback Australia&quot; © Claver Carro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2500"/>
                </a:solidFill>
                <a:latin typeface="Albertus Extra Bold"/>
                <a:cs typeface="Simplified Arabic"/>
              </a:rPr>
              <a:t>بيان الطرق           للتعامل مع المشاكل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60958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2500"/>
                </a:solidFill>
                <a:latin typeface="Albertus Extra Bold"/>
                <a:cs typeface="Simplified Arabic"/>
              </a:rPr>
              <a:t>المنهج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28600"/>
            <a:ext cx="7889760" cy="19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100" spc="-1" strike="noStrike">
                <a:solidFill>
                  <a:srgbClr val="cd9a67"/>
                </a:solidFill>
                <a:latin typeface="Times New Roman"/>
              </a:rPr>
              <a:t>ماهو الهدف من طرح هذا الموضوع ؟</a:t>
            </a:r>
            <a:endParaRPr b="0" lang="en-US" sz="6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&quot;Getting Focused, New York Cit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0000"/>
          </a:bodyPr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af"/>
                </a:solidFill>
                <a:latin typeface="Times New Roman"/>
                <a:cs typeface="Simplified Arabic"/>
              </a:rPr>
              <a:t>إنّ ما يزعج الناس ليس مشاكلهم، وإنّما </a:t>
            </a: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نظرتهم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ل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التعايش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مع المشكلة أمر مطلوب أحياناً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af"/>
                </a:solidFill>
                <a:latin typeface="Times New Roman"/>
                <a:cs typeface="Simplified Arabic"/>
              </a:rPr>
              <a:t>قد يحسن </a:t>
            </a: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تجاهل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المشكلة بعد استيفاء دراستها 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&quot;St Peter's Cathedral, Vatican City, Rome, Ital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038480" y="152280"/>
            <a:ext cx="4876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فترض </a:t>
            </a:r>
            <a:r>
              <a:rPr b="1" lang="ar-SA" sz="3600" spc="-1" strike="noStrike" u="sng">
                <a:solidFill>
                  <a:srgbClr val="ffffcc"/>
                </a:solidFill>
                <a:uFillTx/>
                <a:latin typeface="Times New Roman"/>
                <a:cs typeface="Simplified Arabic"/>
              </a:rPr>
              <a:t>تسمية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المشكلة باسم معين يتعارف عليه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1371600"/>
            <a:ext cx="47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جب أن يعلم </a:t>
            </a:r>
            <a:r>
              <a:rPr b="1" lang="ar-SA" sz="3600" spc="-1" strike="noStrike" u="sng">
                <a:solidFill>
                  <a:srgbClr val="ffffcc"/>
                </a:solidFill>
                <a:uFillTx/>
                <a:latin typeface="Times New Roman"/>
                <a:cs typeface="Simplified Arabic"/>
              </a:rPr>
              <a:t>رئيس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بالمشكلة عن طريقك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&quot;Sunset Sail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00"/>
            </a:outerShdw>
          </a:effectLst>
        </p:spPr>
        <p:txBody>
          <a:bodyPr anchor="t">
            <a:normAutofit fontScale="87000"/>
          </a:bodyPr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أكد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ّ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لست جزءاً من المشكلة أو سبباً رئيساً ل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ا تحاول استنتاج شئ ثمّ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تسع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لإثباته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لا تقف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باشرة إلى الحل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سأل دائماً عن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المظاه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الحقائق وليس عن المشاعر والأحاسي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&quot;Wild Blue Yonder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04920" y="380880"/>
            <a:ext cx="8458200" cy="285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كثير من المشاكل لها خاصية التفاعل والاتجاه نحو </a:t>
            </a:r>
            <a:r>
              <a:rPr b="1" lang="ar-SA" sz="4400" spc="-1" strike="noStrike" u="sng">
                <a:solidFill>
                  <a:srgbClr val="e5e5ff"/>
                </a:solidFill>
                <a:uFillTx/>
                <a:latin typeface="Times New Roman"/>
              </a:rPr>
              <a:t>التضخم</a:t>
            </a: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لا يوجد سبب واحد لكل مشكلة؛ بل عدّة أسباب </a:t>
            </a:r>
            <a:r>
              <a:rPr b="1" lang="ar-SA" sz="4400" spc="-1" strike="noStrike" u="sng">
                <a:solidFill>
                  <a:srgbClr val="e5e5ff"/>
                </a:solidFill>
                <a:uFillTx/>
                <a:latin typeface="Times New Roman"/>
              </a:rPr>
              <a:t>متداخلة</a:t>
            </a: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" descr="&quot;Rainbow Reflection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743200" y="3429000"/>
            <a:ext cx="6129360" cy="3200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2000"/>
          </a:bodyPr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 فجوة الأداء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هي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Times New Roman"/>
              </a:rPr>
              <a:t>الفرق</a:t>
            </a: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 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بين ما ينبغي فعله 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وبين الواقع الفعلي  للعمل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3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3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3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3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" descr="&quot;Secret Spot, Seattle, Washington&quot; © James T. Ensl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0" y="2437920"/>
            <a:ext cx="457200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8000"/>
          </a:bodyPr>
          <a:p>
            <a:pPr marL="26748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لا يمكن حل المشكلة 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Times New Roman"/>
              </a:rPr>
              <a:t>بمستوى التفكير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نفسه عندما أوجدناها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7480"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نحتاج في حل المشكلات إلى مهارات التفكير 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Times New Roman"/>
              </a:rPr>
              <a:t>الإبداعي والتحليل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" descr="&quot;Unlocking the Pas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0"/>
            <a:ext cx="9144000" cy="250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إذا وقعت في مشكلة 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ففكر في </a:t>
            </a:r>
            <a:r>
              <a:rPr b="1" lang="ar-SA" sz="4500" spc="-1" strike="noStrike" u="sng">
                <a:solidFill>
                  <a:srgbClr val="000000"/>
                </a:solidFill>
                <a:uFillTx/>
                <a:latin typeface="Times New Roman"/>
              </a:rPr>
              <a:t>مفاتيحها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 .. لا في قضبانها !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&quot;Santa Lucia Beach, Camaguey, Cub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495680" y="1142640"/>
            <a:ext cx="464832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لابد من فتح طرق </a:t>
            </a:r>
            <a:r>
              <a:rPr b="1" lang="ar-SA" sz="4800" spc="-1" strike="noStrike" u="sng">
                <a:solidFill>
                  <a:srgbClr val="ffffff"/>
                </a:solidFill>
                <a:uFillTx/>
                <a:latin typeface="Times New Roman"/>
              </a:rPr>
              <a:t>الاتصال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 بكل أشكاله: </a:t>
            </a:r>
            <a:br>
              <a:rPr sz="4800"/>
            </a:br>
            <a:br>
              <a:rPr sz="4800"/>
            </a:b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صاعد والنازل والبين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&quot;Into the Clearing, Hunting Valley, Ohio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2971800"/>
            <a:ext cx="8305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حل المشكلات ـ في الغالب ـ </a:t>
            </a:r>
            <a:r>
              <a:rPr b="1" lang="ar-SA" sz="4000" spc="-1" strike="noStrike" u="sng">
                <a:solidFill>
                  <a:srgbClr val="ffff8f"/>
                </a:solidFill>
                <a:uFillTx/>
                <a:latin typeface="Times New Roman"/>
              </a:rPr>
              <a:t>منطق</a:t>
            </a: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 وليس عاطف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809880"/>
            <a:ext cx="8229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استشراف </a:t>
            </a:r>
            <a:r>
              <a:rPr b="1" lang="ar-SA" sz="4000" spc="-1" strike="noStrike" u="sng">
                <a:solidFill>
                  <a:srgbClr val="ffff8f"/>
                </a:solidFill>
                <a:uFillTx/>
                <a:latin typeface="Times New Roman"/>
              </a:rPr>
              <a:t>المستقبل</a:t>
            </a: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 يمنع حدوث المشكلة أو يقلل من أثرها.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&quot;Great Wall, Beijing, Chin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003366"/>
                </a:solidFill>
                <a:latin typeface="Times New Roman"/>
              </a:rPr>
              <a:t>المشكلة فرصة ثمينة !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28440" y="25905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8128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المعنى المرادف للمشكلة عند الصينيين هو: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ff"/>
                </a:solidFill>
                <a:latin typeface="Times New Roman"/>
                <a:ea typeface="Simplified Arabic"/>
              </a:rPr>
              <a:t>  الفرصة !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&quot;Nurture Natur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54100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00"/>
                </a:solidFill>
                <a:latin typeface="Albertus Extra Bold"/>
                <a:ea typeface="Simplified Arabic"/>
              </a:rPr>
              <a:t>        من حدة الذعر وهول الدهشة الناتجين عن حدوث المشاكل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5410080"/>
            <a:ext cx="16383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00"/>
                </a:solidFill>
                <a:latin typeface="Albertus Extra Bold"/>
                <a:cs typeface="Simplified Arabic"/>
              </a:rPr>
              <a:t>التخفيف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9" name="" descr="&quot;The Calm Before the Storm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209680" y="2971800"/>
            <a:ext cx="6096240" cy="31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  <a:cs typeface="Simplified Arabic"/>
              </a:rPr>
              <a:t>إيجاد حل جديد وعدة حلول أخرى بديلة لكل مشكل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  <a:cs typeface="Simplified Arabic"/>
              </a:rPr>
              <a:t>اكتشاف قدرات فكرية وطاقات عملي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457200"/>
            <a:ext cx="594360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رصة .. لماذا ؟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&quot;Roll Tid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48765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8046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3e2c7"/>
                </a:solidFill>
                <a:latin typeface="Times New Roman"/>
                <a:cs typeface="Simplified Arabic"/>
              </a:rPr>
              <a:t>استمرارية البحث عن برامج وآليات جديدة وإبداعية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8046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1d3a"/>
                </a:solidFill>
                <a:latin typeface="Times New Roman"/>
                <a:cs typeface="Simplified Arabic"/>
              </a:rPr>
              <a:t>فرصة .. لماذا ؟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&quot;Star Trails, Saguaro National Park, Arizona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4448160" cy="31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anchor="t">
            <a:normAutofit fontScale="99000"/>
          </a:bodyPr>
          <a:p>
            <a:pPr marL="3394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تحافظ على وحدة المجموعة وتزيد من ثباتها مما يعزز روح الفريق الواحد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1" name="" descr="&quot;Dumbarton Oaks Garden, Georgetown, Washington D.C.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19720" y="5486400"/>
            <a:ext cx="4724280" cy="229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0b00"/>
                </a:solidFill>
                <a:latin typeface="Times New Roman"/>
                <a:cs typeface="Simplified Arabic"/>
              </a:rPr>
              <a:t>بالمقارنة مع التاريخ السابق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0b00"/>
                </a:solidFill>
                <a:latin typeface="Times New Roman"/>
                <a:cs typeface="Simplified Arabic"/>
              </a:rPr>
              <a:t>بالمقارنة مع مجموعات متشابهة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304920"/>
            <a:ext cx="60199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1c1c1c"/>
                </a:solidFill>
                <a:latin typeface="Times New Roman"/>
              </a:rPr>
              <a:t> 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5" name="" descr="&quot;Surreal Sundown, South Africa&quot; © James D. Wa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510516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1800"/>
            </a:outerShdw>
          </a:effectLst>
        </p:spPr>
        <p:txBody>
          <a:bodyPr anchor="t">
            <a:normAutofit fontScale="77000"/>
          </a:bodyPr>
          <a:p>
            <a:pPr marL="263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3c3ff"/>
                </a:solidFill>
                <a:latin typeface="Times New Roman"/>
                <a:cs typeface="Simplified Arabic"/>
              </a:rPr>
              <a:t>من خلال النقد الخارجي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63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3c3ff"/>
                </a:solidFill>
                <a:latin typeface="Times New Roman"/>
                <a:cs typeface="Simplified Arabic"/>
              </a:rPr>
              <a:t>بالرجوع لأهداف الخطة وبرامج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5943600" y="2209320"/>
            <a:ext cx="3200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b6a5"/>
                </a:solidFill>
                <a:latin typeface="Times New Roman"/>
              </a:rPr>
              <a:t> 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" descr="&quot;Morning Fog, Siena, Tuscany, Ital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066680" y="2971800"/>
            <a:ext cx="2057400" cy="2133720"/>
          </a:xfrm>
          <a:prstGeom prst="downArrowCallout">
            <a:avLst>
              <a:gd name="adj1" fmla="val 25002"/>
              <a:gd name="adj2" fmla="val 25000"/>
              <a:gd name="adj3" fmla="val 17285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تضخيم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والتهوي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2971800"/>
            <a:ext cx="2057400" cy="2133720"/>
          </a:xfrm>
          <a:prstGeom prst="downArrowCallout">
            <a:avLst>
              <a:gd name="adj1" fmla="val 25002"/>
              <a:gd name="adj2" fmla="val 25000"/>
              <a:gd name="adj3" fmla="val 17285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اعتدال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والتوسط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05720" y="2971800"/>
            <a:ext cx="1981080" cy="2133720"/>
          </a:xfrm>
          <a:prstGeom prst="downArrowCallout">
            <a:avLst>
              <a:gd name="adj1" fmla="val 25002"/>
              <a:gd name="adj2" fmla="val 25000"/>
              <a:gd name="adj3" fmla="val 17951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نفي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أو الغفل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40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9966"/>
                </a:solidFill>
                <a:latin typeface="Times New Roman"/>
              </a:rPr>
              <a:t>حال الناس مع المشاكل: 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990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الح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41008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تتراكم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541008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اليأس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49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8" name="" descr="&quot;Gentle Whispers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65080" y="-360"/>
            <a:ext cx="707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460023"/>
                </a:solidFill>
                <a:latin typeface="Times New Roman"/>
              </a:rPr>
              <a:t>أسئلة مهمة عند تحديد المشكلات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51055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مدى حدّة المشكلة وصعوبتها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ذا عن تكرار حدوث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 مدى أهميّة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2" name="" descr="&quot;Autumn Light, Canada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27432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anchor="t">
            <a:normAutofit fontScale="81000"/>
          </a:bodyPr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لا تفعل شيئاً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عالجة الآثا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راقبة الوضع فق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عالجة المشكل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51920" y="228240"/>
            <a:ext cx="54104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3366"/>
                </a:solidFill>
                <a:latin typeface="Times New Roman"/>
              </a:rPr>
              <a:t>الأساليب المتبعة للتعامل مع المشكلات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&quot;Hattingen-Sprohovel, North Rhine-Westphalia, German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04920" y="2895480"/>
            <a:ext cx="320040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t">
            <a:normAutofit fontScale="84000"/>
          </a:bodyPr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جهل بحدوثها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ارتياح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438280" y="151920"/>
            <a:ext cx="6553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MCS SILVER"/>
              </a:rPr>
              <a:t>من أسباب عدم مواجهة المشكلة 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3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3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809640" y="4495320"/>
            <a:ext cx="795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" descr="&quot;Yellow Tulip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560" y="533520"/>
            <a:ext cx="373356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lbertus Extra Bold"/>
                <a:cs typeface="Simplified Arabic"/>
              </a:rPr>
              <a:t>كونها تتعلق بشخص محبوب أو مكروه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ffcc00"/>
                </a:solidFill>
                <a:latin typeface="Albertus Extra Bold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MCS SILVER"/>
              </a:rPr>
              <a:t>إذا كانت .......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3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&quot;Alpine Flower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3124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b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توضيح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المستفادة من المشكل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80" y="762120"/>
            <a:ext cx="30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a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الإيجابي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4" name="" descr="&quot;Kinkakuji Temple, Kyoto, Japan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0" y="335232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تجميع</a:t>
            </a:r>
            <a:r>
              <a:rPr b="1" lang="ar-SA" sz="4000" spc="-1" strike="noStrike" u="sng">
                <a:solidFill>
                  <a:srgbClr val="ffd175"/>
                </a:solidFill>
                <a:uFillTx/>
                <a:latin typeface="Times New Roman"/>
                <a:ea typeface="MCS SILVER"/>
              </a:rPr>
              <a:t> 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cs typeface="MCS SILVER"/>
              </a:rPr>
              <a:t>المشاكل الصغيرة كمشكلة كبيرة واحدة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اعتماد على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المشاعر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دون الحقائق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ea typeface="MCS SILVER"/>
              </a:rPr>
              <a:t> القفز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مباشرة إلى الأسباب والحلول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اختلاف حول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معيار الأداء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قياسي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629400" cy="838440"/>
          </a:xfrm>
          <a:prstGeom prst="rect">
            <a:avLst/>
          </a:prstGeom>
          <a:solidFill>
            <a:srgbClr val="ffd175"/>
          </a:solidFill>
          <a:ln w="9360">
            <a:solidFill>
              <a:srgbClr val="080808"/>
            </a:solidFill>
            <a:miter/>
          </a:ln>
          <a:effectLst>
            <a:outerShdw dist="36147" dir="2700000" blurRad="0" rotWithShape="0">
              <a:srgbClr val="cccc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  <a:cs typeface="MCS SILVER"/>
              </a:rPr>
              <a:t>أخطاء في تحديد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&quot;Majestic Descent&quot; © Tom Brake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2666880"/>
            <a:ext cx="3962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التركيز على الأسباب </a:t>
            </a:r>
            <a:r>
              <a:rPr b="1" lang="ar-SA" sz="4800" spc="-1" strike="noStrike" u="sng">
                <a:solidFill>
                  <a:srgbClr val="ffffff"/>
                </a:solidFill>
                <a:uFillTx/>
                <a:latin typeface="Times New Roman"/>
                <a:cs typeface="MCS SILVER"/>
              </a:rPr>
              <a:t>الخارجية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فقط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&quot;Lubeck, German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3581280" cy="338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MCS SILVER"/>
              </a:rPr>
              <a:t>إغفا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MCS SILVER"/>
              </a:rPr>
              <a:t> مشاركة المستويات الإدارية القريبة من تنفيذ العم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5000"/>
              </a:lnSpc>
              <a:buClr>
                <a:srgbClr val="0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40"/>
                </a:solidFill>
                <a:latin typeface="Times New Roman"/>
              </a:rPr>
              <a:t>المشكلة فرصة ثمينة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85000"/>
              </a:lnSpc>
              <a:buClr>
                <a:srgbClr val="0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40"/>
                </a:solidFill>
                <a:latin typeface="Times New Roman"/>
              </a:rPr>
              <a:t>كيف تدرك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38600" y="2933640"/>
            <a:ext cx="1666800" cy="990720"/>
            <a:chOff x="3738600" y="2933640"/>
            <a:chExt cx="1666800" cy="990720"/>
          </a:xfrm>
        </p:grpSpPr>
        <p:sp>
          <p:nvSpPr>
            <p:cNvPr id="302" name=""/>
            <p:cNvSpPr/>
            <p:nvPr/>
          </p:nvSpPr>
          <p:spPr>
            <a:xfrm>
              <a:off x="373860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8600" y="2933640"/>
              <a:ext cx="1666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900" spc="-1" strike="noStrike">
                  <a:solidFill>
                    <a:srgbClr val="0033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04" name="" descr="&quot;Rush, Mammoth Mountain, California&quot; © Ron Romanosk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23520" y="1523880"/>
            <a:ext cx="7162920" cy="243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االتأكيد على ضرورة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cs typeface="Simplified Arabic"/>
              </a:rPr>
              <a:t>في التعامل مع المشكلا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25960" y="2362320"/>
            <a:ext cx="7174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cs typeface="Simplified Arabic"/>
              </a:rPr>
              <a:t>الصراحة والوضوح والدقة</a:t>
            </a: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&quot;Trinity&quot; © Digital Blasph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62120" y="3429000"/>
            <a:ext cx="795816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5008a"/>
            </a:outerShdw>
          </a:effectLst>
        </p:spPr>
        <p:txBody>
          <a:bodyPr anchor="t">
            <a:normAutofit fontScale="78000"/>
          </a:bodyPr>
          <a:p>
            <a:pPr marL="2674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54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هي الصعوبات التي تواجهنا عند الانتقال من مرحلة إلى أخرى؛ وهي إمّا تمنع الوصول أو تؤخره أو تؤثر في نوعيته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095880" y="304920"/>
            <a:ext cx="281952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6006b"/>
            </a:outerShdw>
          </a:effectLst>
        </p:spPr>
        <p:txBody>
          <a:bodyPr anchor="t">
            <a:no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ff9966"/>
                </a:solidFill>
                <a:latin typeface="Times New Roman"/>
                <a:cs typeface="Traditional Arabic"/>
              </a:rPr>
              <a:t>تعريف</a:t>
            </a:r>
            <a:r>
              <a:rPr b="1" i="1" lang="ar-SA" sz="66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7200" spc="-1" strike="noStrike">
                <a:solidFill>
                  <a:srgbClr val="ff9966"/>
                </a:solidFill>
                <a:latin typeface="Times New Roman"/>
                <a:cs typeface="Traditional Arabic"/>
              </a:rPr>
              <a:t>المشكلة</a:t>
            </a:r>
            <a:r>
              <a:rPr b="1" i="1" lang="ar-SA" sz="66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: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&quot;Cool Canyon&quot; © Michael Co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609480"/>
            <a:ext cx="327672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 </a:t>
            </a:r>
            <a:r>
              <a:rPr b="1" i="1" lang="ar-SA" sz="3600" spc="-1" strike="noStrike">
                <a:solidFill>
                  <a:srgbClr val="ccffff"/>
                </a:solidFill>
                <a:latin typeface="Times New Roman"/>
              </a:rPr>
              <a:t>مشكلات في التنفيذ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وهي              عن المعايير المحددة بزيادة أو نقص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ffff"/>
                </a:solidFill>
                <a:latin typeface="Times New Roman"/>
              </a:rPr>
              <a:t>مشكلات في الانجاز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وهي             من الوصول إلى وضع أفضل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380880"/>
            <a:ext cx="3733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 u="sng">
                <a:solidFill>
                  <a:srgbClr val="ffca5f"/>
                </a:solidFill>
                <a:uFillTx/>
                <a:latin typeface="Times New Roman"/>
              </a:rPr>
              <a:t> أنواع المشاكل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1219320"/>
            <a:ext cx="1600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الانحرا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5360" y="3886200"/>
            <a:ext cx="172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ما يمن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&quot;Pyramids, Egypt&quot; © H. Armstrong Roberts / American Stoc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5800" y="4191120"/>
            <a:ext cx="1371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متلاشي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124080"/>
            <a:ext cx="320040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966f00"/>
                </a:solidFill>
                <a:latin typeface="Tahoma"/>
                <a:cs typeface="Traditional Arabic"/>
              </a:rPr>
              <a:t>المشكلة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95320" y="0"/>
            <a:ext cx="448308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33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daa100"/>
                </a:solidFill>
                <a:latin typeface="Times New Roman"/>
              </a:rPr>
              <a:t>تقسيمات أخرى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4191120"/>
            <a:ext cx="1371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متفاقم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6095880"/>
            <a:ext cx="1371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ثابت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 rot="10800000">
            <a:off x="2437920" y="4343040"/>
            <a:ext cx="4648680" cy="1752840"/>
          </a:xfrm>
          <a:prstGeom prst="rect">
            <a:avLst/>
          </a:prstGeom>
          <a:noFill/>
          <a:ln w="5724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&quot;Dic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324" name=""/>
          <p:cNvSpPr/>
          <p:nvPr/>
        </p:nvSpPr>
        <p:spPr>
          <a:xfrm>
            <a:off x="3276720" y="236232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20040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26708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25780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05740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توقع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205740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فاجئ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28954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نادر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28954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تكرر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962520"/>
            <a:ext cx="1981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فرد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396252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جماع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4952880"/>
            <a:ext cx="19814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قديم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9528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حديث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723920" y="609120"/>
            <a:ext cx="4025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قسيمات أخرى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&quot;California Poppies and other Spring Wildflowers, Tehachapi Mountains, California&quot; © Wood Sabo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gradFill rotWithShape="0">
            <a:gsLst>
              <a:gs pos="0">
                <a:srgbClr val="004574"/>
              </a:gs>
              <a:gs pos="100000">
                <a:srgbClr val="007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bd5b"/>
                </a:solidFill>
                <a:latin typeface="Times New Roman"/>
                <a:cs typeface="Simplified Arabic"/>
              </a:rPr>
              <a:t>قد </a:t>
            </a:r>
            <a:r>
              <a:rPr b="1" lang="ar-SA" sz="4400" spc="-1" strike="noStrike" u="sng">
                <a:solidFill>
                  <a:srgbClr val="ffbd5b"/>
                </a:solidFill>
                <a:uFillTx/>
                <a:latin typeface="Times New Roman"/>
                <a:cs typeface="Simplified Arabic"/>
              </a:rPr>
              <a:t>يستحيل</a:t>
            </a:r>
            <a:r>
              <a:rPr b="1" lang="ar-SA" sz="4400" spc="-1" strike="noStrike">
                <a:solidFill>
                  <a:srgbClr val="ffbd5b"/>
                </a:solidFill>
                <a:latin typeface="Times New Roman"/>
                <a:ea typeface="Simplified Arabic"/>
              </a:rPr>
              <a:t> الحصول على حلول كاملة في واقع غير كامل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0"/>
            <a:ext cx="6095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</a:rPr>
              <a:t> مقدمات مهمة عن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31240" y="914400"/>
            <a:ext cx="601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66"/>
                </a:solidFill>
                <a:latin typeface="Times New Roman"/>
              </a:rPr>
              <a:t>المشكلات الإدار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2:33:13Z</dcterms:modified>
  <cp:revision>170</cp:revision>
  <dc:subject/>
  <dc:title>المشكلات الإدارية وكيفية علاجها ؟</dc:title>
</cp:coreProperties>
</file>