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jpeg" ContentType="image/jpeg"/>
  <Override PartName="/ppt/media/image8.gif" ContentType="image/gif"/>
  <Override PartName="/ppt/media/image19.wmf" ContentType="image/x-wmf"/>
  <Override PartName="/ppt/media/image12.gif" ContentType="image/gif"/>
  <Override PartName="/ppt/media/image3.jpeg" ContentType="image/jpeg"/>
  <Override PartName="/ppt/media/image7.gif" ContentType="image/gif"/>
  <Override PartName="/ppt/media/image18.wmf" ContentType="image/x-wmf"/>
  <Override PartName="/ppt/media/image20.png" ContentType="image/png"/>
  <Override PartName="/ppt/media/image17.gif" ContentType="image/gif"/>
  <Override PartName="/ppt/media/image2.jpeg" ContentType="image/jpeg"/>
  <Override PartName="/ppt/media/image21.png" ContentType="image/png"/>
  <Override PartName="/ppt/media/image16.gif" ContentType="image/gif"/>
  <Override PartName="/ppt/media/image14.gif" ContentType="image/gif"/>
  <Override PartName="/ppt/media/image15.wmf" ContentType="image/x-wmf"/>
  <Override PartName="/ppt/media/image1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4BB-3882-405B-A3DB-A5939777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036-54BF-4BCA-94CC-F0303798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856-4658-460A-BCB0-23D32A2F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14D0-D725-49D6-B7FF-16BC0AAE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630-8BAF-4135-A39E-0142FCA2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D991-8F45-462C-8774-29C7E215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E436-C9D1-48F0-83E7-7D294D09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FA5-6979-470C-AB8E-C9C52F93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412-97E3-4CA9-AF7A-BF85FDD9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1280-5CFF-4F22-B54C-30B51AE7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9DF4-3B2B-461E-B6F2-B51214F7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722-6D53-4CA1-B327-C9A7FF4E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62ED-C0FD-4AD6-8781-3EA9B63119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hyperlink" Target="file:///Main.ppt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4.wmf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601992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11640" y="5013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2360" y="3421080"/>
            <a:ext cx="6624720" cy="764280"/>
          </a:xfrm>
          <a:prstGeom prst="rect">
            <a:avLst/>
          </a:prstGeom>
          <a:solidFill>
            <a:srgbClr val="99663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  <a:cs typeface="Hesham Gornata"/>
              </a:rPr>
              <a:t>مهارات الاتصال ( الحوار 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4956120"/>
            <a:ext cx="3922920" cy="22978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cs typeface="AL-Mateen"/>
              </a:rPr>
              <a:t>شعبة البرامج العامة والتدر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  <a:cs typeface="AL-Mateen"/>
              </a:rPr>
              <a:t>نايف بن إسماعيل العنز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916360" y="1511280"/>
            <a:ext cx="5322600" cy="1082520"/>
            <a:chOff x="2916360" y="1511280"/>
            <a:chExt cx="5322600" cy="1082520"/>
          </a:xfrm>
        </p:grpSpPr>
        <p:sp>
          <p:nvSpPr>
            <p:cNvPr id="108" name=""/>
            <p:cNvSpPr/>
            <p:nvPr/>
          </p:nvSpPr>
          <p:spPr>
            <a:xfrm>
              <a:off x="2916360" y="1511280"/>
              <a:ext cx="5322600" cy="1082520"/>
            </a:xfrm>
            <a:custGeom>
              <a:avLst/>
              <a:gdLst/>
              <a:ahLst/>
              <a:rect l="l" t="t" r="r" b="b"/>
              <a:pathLst>
                <a:path w="3974" h="682">
                  <a:moveTo>
                    <a:pt x="0" y="81"/>
                  </a:moveTo>
                  <a:lnTo>
                    <a:pt x="2863" y="81"/>
                  </a:lnTo>
                  <a:lnTo>
                    <a:pt x="2863" y="0"/>
                  </a:lnTo>
                  <a:lnTo>
                    <a:pt x="3974" y="337"/>
                  </a:lnTo>
                  <a:lnTo>
                    <a:pt x="2863" y="682"/>
                  </a:lnTo>
                  <a:lnTo>
                    <a:pt x="2863" y="592"/>
                  </a:lnTo>
                  <a:lnTo>
                    <a:pt x="0" y="59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57080" y="1684080"/>
              <a:ext cx="1927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000066"/>
                  </a:solidFill>
                  <a:latin typeface="Times New Roman"/>
                  <a:cs typeface="AL-Mateen"/>
                </a:rPr>
                <a:t>التجاه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16360" y="2732040"/>
            <a:ext cx="5322600" cy="1082880"/>
            <a:chOff x="2916360" y="2732040"/>
            <a:chExt cx="5322600" cy="1082880"/>
          </a:xfrm>
        </p:grpSpPr>
        <p:sp>
          <p:nvSpPr>
            <p:cNvPr id="111" name=""/>
            <p:cNvSpPr/>
            <p:nvPr/>
          </p:nvSpPr>
          <p:spPr>
            <a:xfrm>
              <a:off x="2916360" y="2732040"/>
              <a:ext cx="5322600" cy="1082880"/>
            </a:xfrm>
            <a:custGeom>
              <a:avLst/>
              <a:gdLst/>
              <a:ahLst/>
              <a:rect l="l" t="t" r="r" b="b"/>
              <a:pathLst>
                <a:path w="3974" h="682">
                  <a:moveTo>
                    <a:pt x="0" y="81"/>
                  </a:moveTo>
                  <a:lnTo>
                    <a:pt x="2863" y="81"/>
                  </a:lnTo>
                  <a:lnTo>
                    <a:pt x="2863" y="0"/>
                  </a:lnTo>
                  <a:lnTo>
                    <a:pt x="3974" y="337"/>
                  </a:lnTo>
                  <a:lnTo>
                    <a:pt x="2863" y="682"/>
                  </a:lnTo>
                  <a:lnTo>
                    <a:pt x="2863" y="592"/>
                  </a:lnTo>
                  <a:lnTo>
                    <a:pt x="0" y="59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5960" y="2905200"/>
              <a:ext cx="40122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200" spc="-1" strike="noStrike">
                  <a:solidFill>
                    <a:srgbClr val="000066"/>
                  </a:solidFill>
                  <a:latin typeface="Times New Roman"/>
                  <a:cs typeface="AL-Mateen"/>
                </a:rPr>
                <a:t>التظاهر بالاستماع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916360" y="3959280"/>
            <a:ext cx="5322600" cy="1082520"/>
            <a:chOff x="2916360" y="3959280"/>
            <a:chExt cx="5322600" cy="1082520"/>
          </a:xfrm>
        </p:grpSpPr>
        <p:sp>
          <p:nvSpPr>
            <p:cNvPr id="114" name=""/>
            <p:cNvSpPr/>
            <p:nvPr/>
          </p:nvSpPr>
          <p:spPr>
            <a:xfrm>
              <a:off x="2916360" y="3959280"/>
              <a:ext cx="5322600" cy="1082520"/>
            </a:xfrm>
            <a:custGeom>
              <a:avLst/>
              <a:gdLst/>
              <a:ahLst/>
              <a:rect l="l" t="t" r="r" b="b"/>
              <a:pathLst>
                <a:path w="3974" h="682">
                  <a:moveTo>
                    <a:pt x="0" y="81"/>
                  </a:moveTo>
                  <a:lnTo>
                    <a:pt x="2863" y="81"/>
                  </a:lnTo>
                  <a:lnTo>
                    <a:pt x="2863" y="0"/>
                  </a:lnTo>
                  <a:lnTo>
                    <a:pt x="3974" y="337"/>
                  </a:lnTo>
                  <a:lnTo>
                    <a:pt x="2863" y="682"/>
                  </a:lnTo>
                  <a:lnTo>
                    <a:pt x="2863" y="592"/>
                  </a:lnTo>
                  <a:lnTo>
                    <a:pt x="0" y="59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51000" y="4097520"/>
              <a:ext cx="366156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100" spc="-1" strike="noStrike">
                  <a:solidFill>
                    <a:srgbClr val="000066"/>
                  </a:solidFill>
                  <a:latin typeface="Times New Roman"/>
                  <a:cs typeface="AL-Mateen"/>
                </a:rPr>
                <a:t>الاستماع الجزئي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916360" y="5181480"/>
            <a:ext cx="5322600" cy="1082880"/>
            <a:chOff x="2916360" y="5181480"/>
            <a:chExt cx="5322600" cy="1082880"/>
          </a:xfrm>
        </p:grpSpPr>
        <p:sp>
          <p:nvSpPr>
            <p:cNvPr id="117" name=""/>
            <p:cNvSpPr/>
            <p:nvPr/>
          </p:nvSpPr>
          <p:spPr>
            <a:xfrm>
              <a:off x="2916360" y="5181480"/>
              <a:ext cx="5322600" cy="1082880"/>
            </a:xfrm>
            <a:custGeom>
              <a:avLst/>
              <a:gdLst/>
              <a:ahLst/>
              <a:rect l="l" t="t" r="r" b="b"/>
              <a:pathLst>
                <a:path w="3974" h="682">
                  <a:moveTo>
                    <a:pt x="0" y="81"/>
                  </a:moveTo>
                  <a:lnTo>
                    <a:pt x="2863" y="81"/>
                  </a:lnTo>
                  <a:lnTo>
                    <a:pt x="2863" y="0"/>
                  </a:lnTo>
                  <a:lnTo>
                    <a:pt x="3974" y="337"/>
                  </a:lnTo>
                  <a:lnTo>
                    <a:pt x="2863" y="682"/>
                  </a:lnTo>
                  <a:lnTo>
                    <a:pt x="2863" y="592"/>
                  </a:lnTo>
                  <a:lnTo>
                    <a:pt x="0" y="59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6f858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54160" y="5327640"/>
              <a:ext cx="358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400" spc="-1" strike="noStrike">
                  <a:solidFill>
                    <a:srgbClr val="000066"/>
                  </a:solidFill>
                  <a:latin typeface="Times New Roman"/>
                  <a:cs typeface="AL-Mateen"/>
                </a:rPr>
                <a:t>الاستماع بانتبا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8388360" y="1655640"/>
            <a:ext cx="56520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8360" y="2889360"/>
            <a:ext cx="56520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4103640"/>
            <a:ext cx="56520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8360" y="5346720"/>
            <a:ext cx="56520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4920" y="1328760"/>
            <a:ext cx="4498920" cy="5224320"/>
            <a:chOff x="34920" y="1328760"/>
            <a:chExt cx="4498920" cy="5224320"/>
          </a:xfrm>
        </p:grpSpPr>
        <p:grpSp>
          <p:nvGrpSpPr>
            <p:cNvPr id="124" name=""/>
            <p:cNvGrpSpPr/>
            <p:nvPr/>
          </p:nvGrpSpPr>
          <p:grpSpPr>
            <a:xfrm>
              <a:off x="34920" y="1328760"/>
              <a:ext cx="4498920" cy="5224320"/>
              <a:chOff x="34920" y="1328760"/>
              <a:chExt cx="4498920" cy="5224320"/>
            </a:xfrm>
          </p:grpSpPr>
          <p:sp>
            <p:nvSpPr>
              <p:cNvPr id="125" name=""/>
              <p:cNvSpPr/>
              <p:nvPr/>
            </p:nvSpPr>
            <p:spPr>
              <a:xfrm>
                <a:off x="34920" y="1328760"/>
                <a:ext cx="4498920" cy="522432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52156"/>
                    </a:srgbClr>
                  </a:gs>
                  <a:gs pos="100000">
                    <a:srgbClr val="274e63">
                      <a:alpha val="27058"/>
                    </a:srgbClr>
                  </a:gs>
                </a:gsLst>
                <a:path path="rect">
                  <a:fillToRect l="50000" t="50000" r="50000" b="50000"/>
                </a:path>
              </a:gra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2680" y="1437480"/>
                <a:ext cx="4340520" cy="500760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52156"/>
                    </a:srgbClr>
                  </a:gs>
                  <a:gs pos="100000">
                    <a:srgbClr val="274e63">
                      <a:alpha val="27058"/>
                    </a:srgbClr>
                  </a:gs>
                </a:gsLst>
                <a:path path="rect">
                  <a:fillToRect l="50000" t="50000" r="50000" b="50000"/>
                </a:path>
              </a:gra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573120" y="1800360"/>
              <a:ext cx="3240000" cy="42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990720" y="137160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L-Mateen"/>
              </a:rPr>
              <a:t>  درجات الاستما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2833560"/>
            <a:ext cx="3657600" cy="1557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Times New Roman"/>
                <a:ea typeface="AL-Mateen"/>
              </a:rPr>
              <a:t> تمرين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86280" y="1371600"/>
            <a:ext cx="297180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L-Mateen"/>
              </a:rPr>
              <a:t> أنواع حو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2533680"/>
            <a:ext cx="4267080" cy="286344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الحوار العدمي التعجيز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حوار المناورة (الكر والفر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الحوار السلطوي (اسمع واستجب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الحوار السطحي (لا تقترب من الأعماق فتغر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حوار الطريق المسدود </a:t>
            </a:r>
            <a:r>
              <a:rPr b="1" lang="ar-SA" sz="2000" spc="-1" strike="noStrike">
                <a:solidFill>
                  <a:srgbClr val="008000"/>
                </a:solidFill>
                <a:latin typeface="Arial"/>
              </a:rPr>
              <a:t>(لا داعي للحوار فلنتف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2533680"/>
            <a:ext cx="4267080" cy="316836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 الحوار الإلغائي أو التسفيهي (كل ما عداي خطأ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  حوار البرج العاج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  الحوار الموافق (معك على طول الخ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  الحوار المعاكس (عكسك دائما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 حوار العدوان السلبي (صمت العناد والتجاه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380200">
            <a:off x="1047240" y="5200560"/>
            <a:ext cx="1409760" cy="1219320"/>
          </a:xfrm>
          <a:custGeom>
            <a:avLst/>
            <a:gdLst>
              <a:gd name="textAreaLeft" fmla="*/ 469800 w 1409760"/>
              <a:gd name="textAreaRight" fmla="*/ 1207440 w 1409760"/>
              <a:gd name="textAreaTop" fmla="*/ 828360 h 1219320"/>
              <a:gd name="textAreaBottom" fmla="*/ 10443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7771"/>
                </a:moveTo>
                <a:lnTo>
                  <a:pt x="14671" y="17771"/>
                </a:lnTo>
                <a:lnTo>
                  <a:pt x="14671" y="7200"/>
                </a:lnTo>
                <a:lnTo>
                  <a:pt x="11571" y="7200"/>
                </a:lnTo>
                <a:lnTo>
                  <a:pt x="1658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rot="16180800">
            <a:off x="6532920" y="4971960"/>
            <a:ext cx="1409760" cy="1676520"/>
          </a:xfrm>
          <a:custGeom>
            <a:avLst/>
            <a:gdLst>
              <a:gd name="textAreaLeft" fmla="*/ 470160 w 1409760"/>
              <a:gd name="textAreaRight" fmla="*/ 1207800 w 1409760"/>
              <a:gd name="textAreaTop" fmla="*/ 1138680 h 1676520"/>
              <a:gd name="textAreaBottom" fmla="*/ 14360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7771"/>
                </a:moveTo>
                <a:lnTo>
                  <a:pt x="14671" y="17771"/>
                </a:lnTo>
                <a:lnTo>
                  <a:pt x="14671" y="7200"/>
                </a:lnTo>
                <a:lnTo>
                  <a:pt x="11571" y="7200"/>
                </a:lnTo>
                <a:lnTo>
                  <a:pt x="1658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410080"/>
            <a:ext cx="3809880" cy="10670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55627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 حوارات سلب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295280"/>
            <a:ext cx="8839080" cy="94716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Arial"/>
                <a:cs typeface="AL-Mateen"/>
              </a:rPr>
              <a:t>إذاً فما هي يا ترى مواصفا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  <a:cs typeface="AL-Mateen"/>
              </a:rPr>
              <a:t>الحوار الإيجا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1" lang="hi-IN" sz="2800" spc="-1" strike="noStrike">
                <a:solidFill>
                  <a:srgbClr val="0000ff"/>
                </a:solidFill>
                <a:latin typeface="Arial"/>
                <a:cs typeface="AL-Mateen"/>
              </a:rPr>
              <a:t>الذي نسعى لترسيخه بيننا ؟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989000"/>
            <a:ext cx="86868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الحوار الإيجابي الصحي هو الحوار الموضوعي الذي يرى الحسنات والسلبيات في ذات الوق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يرى العقبات ويرى أيضا إمكانيات التغلب عليها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هو حوار متفائل (في غير مبالغة ساذج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هو حوار صادق عميق وواضح الكلمات ومدلولاته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هو الحوار المتكافئ الذي يعطى لكلا الطرفين فرصة التعبير ، ويحترم الرأي الآخر ويعرف حتمية الخلاف في الرأي بين البشر وآداب الخلاف وتقبله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هو حوار واقعي يتصل إيجابيا بالحياة اليومية الواقعية واتصاله هذا ليس اتصال قبول ورضوخ للأمر الواقع بل اتصال تفهم وتغيير وإصلاح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هو حوار موافقة حين تكون الموافقة هي الصواب ومخالفة حين تكون المخالفة هي الصواب فالهدف النهائي له هو إثبات الحقيقة حيث هي لا حيث نراها بأهوائنا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66"/>
                </a:solidFill>
                <a:latin typeface="Symbol"/>
                <a:ea typeface="Symbol"/>
              </a:rPr>
              <a:t></a:t>
            </a:r>
            <a:r>
              <a:rPr b="0" lang="ar-SA" sz="1800" spc="-1" strike="noStrike">
                <a:solidFill>
                  <a:srgbClr val="003366"/>
                </a:solidFill>
                <a:latin typeface="Times New Roman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حوار تسوده المحبة والمسؤولية والرعاية وإنكار الذات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AL-Mateen"/>
              </a:rPr>
              <a:t>.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يسمح للآخر يقول رأيه مهما كان الفرق بين الطرفي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305920" cy="4987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676520" y="2590920"/>
            <a:ext cx="491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L-Mateen"/>
              </a:rPr>
              <a:t> نتمنى من الله العزيز القدير أن نكو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L-Mateen"/>
              </a:rPr>
              <a:t> قد وفقنا في هذا الجان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81200" y="4110120"/>
            <a:ext cx="397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L-Mateen"/>
              </a:rPr>
              <a:t> أخو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L-Mateen"/>
              </a:rPr>
              <a:t>نايف بن إسماعيل العنز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51814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reetag@hotmail.com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3"/>
          </p:cNvPr>
          <p:cNvSpPr/>
          <p:nvPr/>
        </p:nvSpPr>
        <p:spPr>
          <a:xfrm>
            <a:off x="838080" y="5410080"/>
            <a:ext cx="1600200" cy="381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64000" y="2946240"/>
            <a:ext cx="777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8000" y="1125360"/>
            <a:ext cx="1655640" cy="2376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524720" y="1413000"/>
            <a:ext cx="1295280" cy="1944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450864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ateen"/>
              </a:rPr>
              <a:t>العملية التي يتم بها نقل المعلومات والمعاني والأفكار من شخص إلى آخر أو آخرين بصورة تحقق الأهداف المنشودة في المنشأة أو في أي جماعة من الناس ذات نشاط اجتماع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2399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L-Mateen"/>
              </a:rPr>
              <a:t> ما هو الاتصال ؟؟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429000"/>
            <a:ext cx="8381880" cy="762120"/>
          </a:xfrm>
          <a:custGeom>
            <a:avLst/>
            <a:gdLst>
              <a:gd name="textAreaLeft" fmla="*/ 1635120 w 8381880"/>
              <a:gd name="textAreaRight" fmla="*/ 5908680 w 8381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28" hR="21600" stAng="10800000" swAng="-5400000"/>
                <a:lnTo>
                  <a:pt x="11013" y="21600"/>
                </a:lnTo>
                <a:arcTo wR="8428" hR="21600" stAng="5400000" swAng="-1806140"/>
                <a:lnTo>
                  <a:pt x="20164" y="12060"/>
                </a:lnTo>
                <a:lnTo>
                  <a:pt x="18148" y="0"/>
                </a:lnTo>
                <a:lnTo>
                  <a:pt x="13259" y="12060"/>
                </a:lnTo>
                <a:lnTo>
                  <a:pt x="15419" y="12060"/>
                </a:lnTo>
                <a:arcTo wR="8428" hR="21600" stAng="3593860" swAng="1598224"/>
                <a:lnTo>
                  <a:pt x="9720" y="21344"/>
                </a:lnTo>
                <a:arcTo wR="8428" hR="21600" stAng="5607917" swAng="5192083"/>
                <a:close/>
              </a:path>
              <a:path fill="darkenLess" w="21600" h="21600">
                <a:moveTo>
                  <a:pt x="0" y="0"/>
                </a:moveTo>
                <a:arcTo wR="8428" hR="21600" stAng="10800000" swAng="-5400000"/>
                <a:lnTo>
                  <a:pt x="11013" y="21600"/>
                </a:lnTo>
                <a:arcTo wR="8428" hR="21600" stAng="5400000" swAng="207917"/>
                <a:lnTo>
                  <a:pt x="9720" y="21344"/>
                </a:lnTo>
                <a:arcTo wR="8428" hR="21600" stAng="5607917" swAng="5192083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1295280"/>
            <a:ext cx="8839440" cy="487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372280" y="1944720"/>
            <a:ext cx="3162240" cy="2968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57200" y="1996920"/>
            <a:ext cx="3048120" cy="2862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1371600"/>
            <a:ext cx="914400" cy="4724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2920" y="3357720"/>
            <a:ext cx="115236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معن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64000" y="2946240"/>
            <a:ext cx="777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350208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رسا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4821120"/>
            <a:ext cx="143964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إزعا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5734080"/>
            <a:ext cx="4175280" cy="5205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تغذية راج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278136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مرس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2781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مست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2924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قن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357720"/>
            <a:ext cx="187164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تشف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1755600">
            <a:off x="285480" y="4425840"/>
            <a:ext cx="242892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 rot="1303200">
            <a:off x="6843240" y="3781440"/>
            <a:ext cx="1276560" cy="2575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380360" y="335772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508720" y="3357720"/>
            <a:ext cx="1871640" cy="947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فك التشف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883640" y="3357720"/>
            <a:ext cx="115236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معن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050920" y="3357720"/>
            <a:ext cx="432000" cy="50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 rot="4530000">
            <a:off x="2416680" y="3999600"/>
            <a:ext cx="1584360" cy="874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 rot="9986400">
            <a:off x="5073120" y="3921120"/>
            <a:ext cx="1508400" cy="1092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3564000" y="3429000"/>
            <a:ext cx="360360" cy="380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5224320" y="3429000"/>
            <a:ext cx="355680" cy="36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108000" y="1125360"/>
            <a:ext cx="1655640" cy="237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7524720" y="1413000"/>
            <a:ext cx="1295280" cy="194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95480" y="1447920"/>
            <a:ext cx="33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0000"/>
                </a:solidFill>
                <a:latin typeface="Arial"/>
                <a:cs typeface="AL-Mateen"/>
              </a:rPr>
              <a:t>الاتصا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4920" y="2232000"/>
          <a:ext cx="5689440" cy="432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2232000"/>
                    <a:ext cx="568944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22200" y="1249200"/>
            <a:ext cx="864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كتشف العالم الفرنسي البرت مهارابيان  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AL-Mateen"/>
              </a:rPr>
              <a:t>Albert</a:t>
            </a:r>
            <a:r>
              <a:rPr b="0" lang="en-US" sz="3200" spc="-1" strike="noStrike">
                <a:solidFill>
                  <a:srgbClr val="000000"/>
                </a:solidFill>
                <a:latin typeface="바탕"/>
                <a:ea typeface="AL-Matee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AL-Mateen"/>
              </a:rPr>
              <a:t>Meharabia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ateen"/>
              </a:rPr>
              <a:t> من جامعة هارفارد أن ( </a:t>
            </a:r>
            <a:r>
              <a:rPr b="0" lang="ar-SA" sz="3200" spc="-1" strike="noStrike">
                <a:solidFill>
                  <a:srgbClr val="800000"/>
                </a:solidFill>
                <a:latin typeface="Arial"/>
                <a:ea typeface="AL-Mateen"/>
              </a:rPr>
              <a:t>9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L-Mateen"/>
              </a:rPr>
              <a:t>% من عملية الاتصالات تكون غير ملفوظة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8570880" y="280980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788000" y="2665440"/>
            <a:ext cx="3782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ateen"/>
              </a:rPr>
              <a:t>تعبيرات الجسم </a:t>
            </a:r>
            <a:r>
              <a:rPr b="0" lang="en-US" sz="3800" spc="-1" strike="noStrike">
                <a:solidFill>
                  <a:srgbClr val="800000"/>
                </a:solidFill>
                <a:latin typeface="Arial"/>
                <a:ea typeface="AL-Mateen"/>
              </a:rPr>
              <a:t>55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ateen"/>
              </a:rPr>
              <a:t>%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8559720" y="363060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219640" y="3457440"/>
            <a:ext cx="33796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700" spc="-1" strike="noStrike">
                <a:solidFill>
                  <a:srgbClr val="000000"/>
                </a:solidFill>
                <a:latin typeface="Arial"/>
                <a:cs typeface="AL-Mateen"/>
              </a:rPr>
              <a:t>نبرة الصوت </a:t>
            </a:r>
            <a:r>
              <a:rPr b="0" lang="en-US" sz="3700" spc="-1" strike="noStrike">
                <a:solidFill>
                  <a:srgbClr val="800000"/>
                </a:solidFill>
                <a:latin typeface="Arial"/>
                <a:ea typeface="AL-Mateen"/>
              </a:rPr>
              <a:t>38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  <a:ea typeface="AL-Mateen"/>
              </a:rPr>
              <a:t>% 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559720" y="442260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12000" y="4246560"/>
            <a:ext cx="258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Mateen"/>
              </a:rPr>
              <a:t>الكلمات 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  <a:ea typeface="AL-Matee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L-Mateen"/>
              </a:rPr>
              <a:t>%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1905120"/>
            <a:ext cx="75438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  <a:cs typeface="AL-Mateen"/>
              </a:rPr>
              <a:t>عناصر عملية الاتص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تتكون عملية الاتصال من العناصر التال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لمُرسِل أو المُصدِّ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ترجمة وتسجيل الرسالة في شكل مفهو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لرسالة موضوع الات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وسيلة الات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تفهم الرسالة بواسطة الشخص الذي يستقبل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L-Matee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ateen"/>
              </a:rPr>
              <a:t>استرجاع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880" y="21718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09680"/>
            <a:ext cx="815364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*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ateen"/>
              </a:rPr>
              <a:t>عدم انتباه مستقبل الرسالة إلى محتويات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*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ateen"/>
              </a:rPr>
              <a:t>عدم وجود تفهم دقيق للمقصود من الرسالة سواء بواسطة المرسل إليه أو المصد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*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ateen"/>
              </a:rPr>
              <a:t>استخدام كلمات في الرسالة لها دلالات ومعان مختلفة لأشخاص مختلفي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*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ateen"/>
              </a:rPr>
              <a:t>ضغط الوقت لكل من المرسل أو المرسل إل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  *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ateen"/>
              </a:rPr>
              <a:t>تأثير الحكم الشخصي لمستقبل الرسالة على نجاح عم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L-Mateen"/>
              </a:rPr>
              <a:t>           الاتصا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2284560" cy="2252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638680" y="144792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L-Mateen"/>
              </a:rPr>
              <a:t> معوقات الاتصا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523880"/>
            <a:ext cx="8686800" cy="62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AL-Mateen"/>
              </a:rPr>
              <a:t>التغلب على معوقات الاتصا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تقديم المعلومات بشكل يتفق ورغبات الشخص ،  فالشخص يقبل على المعلومات أو يعرض عنها ،  طبقا لما إذا كانت تتفق مع احتياجاته أم لا ،  وهذا يدعو الإدارة إلى تفهم تلك الحاجات والرغبات وتصميم وسائل الاتصال تبعا ل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 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تقديم المعلومات في وحدات 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  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AL-Mateen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Mateen"/>
              </a:rPr>
              <a:t>إتاحة الفرصة للشخص المرسل إليه المعلومات لأن يشرح وجهة نظره ف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      المعلومات ورد الفعل نفسه-وذلك يهيئ لمرسل المعلومات الفرصة لكي يتأكد م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Mateen"/>
              </a:rPr>
              <a:t>        أن المعني الذي يقصده هو بذاته المعنى الذي فهمه المرسل إلي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2158920" cy="2362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4648320"/>
            <a:ext cx="1371600" cy="160020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480" y="2664000"/>
            <a:ext cx="8915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جلوس فى مكان بعيد عن الضوضاء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نظر باهتمام إلى المتحدث ، وإبداء الرغبة فى مشاركته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تكيف ذهنيا مع سرعة المتحدث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دقة السمعية التى بدونها تتعطل جميع مهارات الاستماع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قدرة على التفسير ، والتمثيل اللذين عن طريقهما يفهم المستمع ما يقال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قدرة على التمييز بين الأصوات المتعددة ، والإيماءات المختلفة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قدرة على التمييز بين الأفكار الرئيسة ، والأفكار الثانوية فى الحديث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ـ القدرة على الاحتفاظ بالأفكار الرئيسة حية فى الذهن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6040" y="1523880"/>
            <a:ext cx="3460680" cy="1191240"/>
          </a:xfrm>
          <a:prstGeom prst="rect">
            <a:avLst/>
          </a:prstGeom>
          <a:solidFill>
            <a:srgbClr val="cc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00"/>
                </a:solidFill>
                <a:latin typeface="MS Sans Serif"/>
                <a:cs typeface="AL-Mateen"/>
              </a:rPr>
              <a:t>شروط الاستماع الج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1638360" cy="26668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08:10:32Z</dcterms:created>
  <dc:creator>111</dc:creator>
  <dc:description/>
  <dc:language>en-US</dc:language>
  <cp:lastModifiedBy>***</cp:lastModifiedBy>
  <dcterms:modified xsi:type="dcterms:W3CDTF">2005-06-20T11:08:29Z</dcterms:modified>
  <cp:revision>104</cp:revision>
  <dc:subject/>
  <dc:title>الشريحة 1</dc:title>
</cp:coreProperties>
</file>