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9.gif" ContentType="image/gif"/>
  <Override PartName="/ppt/media/image18.jpeg" ContentType="image/jpeg"/>
  <Override PartName="/ppt/media/image21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910-F8C8-4406-960C-C0D4CC4D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155-0A3C-487B-B35C-EC74E18B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C34-13DD-464A-BBA9-0880400C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23D-A9BB-4FB5-83E9-8EBF29AE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F33-8EDF-4D31-A786-FCA0225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D1B-5E9F-4679-B032-813E15F0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AED-9348-484F-9CDC-6C81ECFF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A0E-4144-48DD-A4CF-548E825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431-96EF-46A5-8E5D-9E1831A2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0E8-2DDB-452F-9228-476DF89D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1FC-4F1B-4788-A1AA-5E9E0882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CD2-AA5B-43E7-8B9A-8B3A6A9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35E3-D66A-4649-BEA7-19BB3F11E3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hyperlink" Target="file:///Main.pp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0199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421080"/>
            <a:ext cx="6624720" cy="764280"/>
          </a:xfrm>
          <a:prstGeom prst="rect">
            <a:avLst/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Hesham Gornata"/>
              </a:rPr>
              <a:t>التخطيط وإعداد البرام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956120"/>
            <a:ext cx="3922920" cy="2297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شعبة البرامج العامة و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أخذ موافقة الجهات المسئولة  وأولياء الأمور إذا كان هنالك تنفيذ للبرامج خارج إطار المرك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1276200"/>
            <a:ext cx="236196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Black"/>
              </a:rPr>
              <a:t>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2948400" y="2438280"/>
            <a:ext cx="70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التنسيق بين الأسر أثناء تنفيذ البر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08600" y="2971800"/>
            <a:ext cx="69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تناسب أعداد الطلاب داخل كل الأس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77200" y="3429000"/>
            <a:ext cx="11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إشراك الطلاب في اتخاذ القرارات داخل الأسر قبل وخلال ا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9160" y="3886200"/>
            <a:ext cx="9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وفير الحوافز المادية والمعنوية للمبدعين من الطلاب والمعلمين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6840" y="4343400"/>
            <a:ext cx="100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نويع الأنشطة مع مراعاة الميول والرغبات عند التوزيع على الأس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895400" y="4800600"/>
            <a:ext cx="128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إعداد الخطة الزمنية في ضوء إمكانيات المدرسة وظروفها مع مراعاة مرونة الإجراء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20" y="5257800"/>
            <a:ext cx="106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مراقبة والمتابعة المستمرة من الجهات الإشرافية على تنفيذ البر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0" y="137160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راعي التالي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1523880"/>
            <a:ext cx="4419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 إعداد برنامج عام للمرك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9718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عدد الأسر المتوق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38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طريقتك في توزيع المشاركين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581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* الإمكانيات الموجودة بالمركز  ( مادية – عينية – مشرفي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221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الظروف البيئية والمناخية والجغرا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800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أرحنا بها يا بلال ....... وتوزيع التنفي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4100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* ( إنما يخشى الله من عبادة العلماء )........ ماذا قدمنا ؟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9738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القرية الصغيرة .......... ومازلنا نبحث على الور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148400">
            <a:off x="-65520" y="3314520"/>
            <a:ext cx="3429000" cy="9471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L-Mateen"/>
              </a:rPr>
              <a:t> أترك المكان أجمل مما ك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744640"/>
            <a:ext cx="4647960" cy="131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350040" cy="381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514600"/>
            <a:ext cx="2324160" cy="262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1219320"/>
            <a:ext cx="762012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203480"/>
            <a:ext cx="7543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؟؟؟؟؟؟؟؟؟؟؟؟؟؟؟؟؟؟؟؟؟؟؟؟؟؟؟؟؟؟؟؟؟؟؟؟؟؟؟؟؟؟؟؟؟؟؟؟؟؟؟؟؟؟؟؟؟؟؟؟؟؟؟؟؟؟؟؟؟؟؟؟؟؟؟؟؟؟؟؟؟؟؟؟؟؟؟؟؟؟؟؟؟؟؟؟؟؟؟؟؟؟؟؟؟؟؟؟؟؟؟؟؟؟؟؟؟؟؟؟؟؟؟؟؟؟؟؟؟؟؟؟؟؟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10824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4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؟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350040" cy="3810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1110960" cy="125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00400" y="5105520"/>
            <a:ext cx="1111320" cy="125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1111320" cy="12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7042320" y="5105520"/>
            <a:ext cx="11109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21578400">
            <a:off x="2895480" y="152388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 </a:t>
            </a: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التوثيق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L-Mateen"/>
              <a:ea typeface="AL-Matee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3733560" cy="228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43400" y="3486240"/>
            <a:ext cx="4495680" cy="287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04920" y="15238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852640"/>
            <a:ext cx="883908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1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عرف على مستوى الأداء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2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يعتبر وسيلة من وسائل التقويم الفتري والنهائي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3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وسيلة من وسائل الاتصال بين المركز والمجتمع والمسؤولين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4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تكوين فكرة عن البرامج المنفذة لدى ولي الأمر والمسئول عند إطلاعه علي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5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أداة تقييم فعاله في حالة الجودة والشمول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523880"/>
            <a:ext cx="40384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  <a:ea typeface="AL-Mateen"/>
              </a:rPr>
              <a:t> أهمية التوثي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1125360"/>
            <a:ext cx="33526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371600"/>
            <a:ext cx="3429000" cy="82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  <a:ea typeface="AL-Mateen"/>
              </a:rPr>
              <a:t> أنواع التوثي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106960"/>
            <a:ext cx="883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شام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هو يشمل النوع الأول والثاني من أنواع التوثيق  وهو وسيلة جيدة لتوثيق الحدث والتعبير عن ما تم خلال البرن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كتابي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بارة عن سرد وكتابة الأحداث ويمكن عن طريقة رصد ومتابعة كثير من التغيرات والتفاعلات التي تحدث داخل الجماعات ويشمل التوثيق الإحصائ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5904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مرئ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يتم باستخدام الفيديو أو الوسائط المتعددة مثل الكاميرا الفوتغرافية وكاميرات الديجيتال الخاصة الحاسب الآلي والتوثيق هنا يكون بالصوت والصو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49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76520" y="2590920"/>
            <a:ext cx="49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نتمنى من الله العزيز القدير أن ن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قد وفقنا في هذا الجان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1200" y="411012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ateen"/>
              </a:rPr>
              <a:t> أخو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181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reetag@hotmail.co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3"/>
          </p:cNvPr>
          <p:cNvSpPr/>
          <p:nvPr/>
        </p:nvSpPr>
        <p:spPr>
          <a:xfrm>
            <a:off x="838080" y="5410080"/>
            <a:ext cx="160020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0960" y="1628640"/>
            <a:ext cx="8205840" cy="484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2260440"/>
            <a:ext cx="380988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التخطيط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L-Mateen"/>
              <a:ea typeface="AL-Matee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192320"/>
            <a:ext cx="1319040" cy="177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1981080" cy="1663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162920" y="2971800"/>
            <a:ext cx="1752480" cy="15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1790640"/>
            <a:ext cx="4730760" cy="1123920"/>
          </a:xfrm>
          <a:custGeom>
            <a:avLst/>
            <a:gdLst/>
            <a:ahLst/>
            <a:rect l="l" t="t" r="r" b="b"/>
            <a:pathLst>
              <a:path w="2980" h="708">
                <a:moveTo>
                  <a:pt x="2976" y="708"/>
                </a:moveTo>
                <a:cubicBezTo>
                  <a:pt x="2952" y="637"/>
                  <a:pt x="2980" y="707"/>
                  <a:pt x="2928" y="624"/>
                </a:cubicBezTo>
                <a:cubicBezTo>
                  <a:pt x="2863" y="520"/>
                  <a:pt x="2799" y="423"/>
                  <a:pt x="2712" y="336"/>
                </a:cubicBezTo>
                <a:cubicBezTo>
                  <a:pt x="2703" y="327"/>
                  <a:pt x="2687" y="330"/>
                  <a:pt x="2676" y="324"/>
                </a:cubicBezTo>
                <a:cubicBezTo>
                  <a:pt x="2663" y="318"/>
                  <a:pt x="2653" y="307"/>
                  <a:pt x="2640" y="300"/>
                </a:cubicBezTo>
                <a:cubicBezTo>
                  <a:pt x="2589" y="271"/>
                  <a:pt x="2535" y="244"/>
                  <a:pt x="2484" y="216"/>
                </a:cubicBezTo>
                <a:cubicBezTo>
                  <a:pt x="2459" y="202"/>
                  <a:pt x="2412" y="168"/>
                  <a:pt x="2412" y="168"/>
                </a:cubicBezTo>
                <a:cubicBezTo>
                  <a:pt x="2404" y="156"/>
                  <a:pt x="2398" y="142"/>
                  <a:pt x="2388" y="132"/>
                </a:cubicBezTo>
                <a:cubicBezTo>
                  <a:pt x="2378" y="122"/>
                  <a:pt x="2361" y="119"/>
                  <a:pt x="2352" y="108"/>
                </a:cubicBezTo>
                <a:cubicBezTo>
                  <a:pt x="2344" y="98"/>
                  <a:pt x="2348" y="82"/>
                  <a:pt x="2340" y="72"/>
                </a:cubicBezTo>
                <a:cubicBezTo>
                  <a:pt x="2299" y="21"/>
                  <a:pt x="2194" y="19"/>
                  <a:pt x="2136" y="0"/>
                </a:cubicBezTo>
                <a:cubicBezTo>
                  <a:pt x="1972" y="9"/>
                  <a:pt x="1807" y="14"/>
                  <a:pt x="1644" y="36"/>
                </a:cubicBezTo>
                <a:cubicBezTo>
                  <a:pt x="1562" y="47"/>
                  <a:pt x="1503" y="68"/>
                  <a:pt x="1416" y="72"/>
                </a:cubicBezTo>
                <a:cubicBezTo>
                  <a:pt x="1280" y="78"/>
                  <a:pt x="1144" y="80"/>
                  <a:pt x="1008" y="84"/>
                </a:cubicBezTo>
                <a:cubicBezTo>
                  <a:pt x="878" y="98"/>
                  <a:pt x="758" y="134"/>
                  <a:pt x="636" y="180"/>
                </a:cubicBezTo>
                <a:cubicBezTo>
                  <a:pt x="568" y="205"/>
                  <a:pt x="513" y="253"/>
                  <a:pt x="444" y="276"/>
                </a:cubicBezTo>
                <a:cubicBezTo>
                  <a:pt x="390" y="357"/>
                  <a:pt x="454" y="278"/>
                  <a:pt x="384" y="324"/>
                </a:cubicBezTo>
                <a:cubicBezTo>
                  <a:pt x="370" y="333"/>
                  <a:pt x="361" y="350"/>
                  <a:pt x="348" y="360"/>
                </a:cubicBezTo>
                <a:cubicBezTo>
                  <a:pt x="286" y="408"/>
                  <a:pt x="294" y="402"/>
                  <a:pt x="240" y="420"/>
                </a:cubicBezTo>
                <a:cubicBezTo>
                  <a:pt x="196" y="486"/>
                  <a:pt x="240" y="430"/>
                  <a:pt x="180" y="480"/>
                </a:cubicBezTo>
                <a:cubicBezTo>
                  <a:pt x="135" y="518"/>
                  <a:pt x="141" y="545"/>
                  <a:pt x="84" y="564"/>
                </a:cubicBezTo>
                <a:cubicBezTo>
                  <a:pt x="80" y="576"/>
                  <a:pt x="81" y="591"/>
                  <a:pt x="72" y="600"/>
                </a:cubicBezTo>
                <a:cubicBezTo>
                  <a:pt x="32" y="640"/>
                  <a:pt x="36" y="591"/>
                  <a:pt x="36" y="624"/>
                </a:cubicBezTo>
                <a:lnTo>
                  <a:pt x="0" y="696"/>
                </a:ln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6040" y="2814480"/>
            <a:ext cx="6229440" cy="3515040"/>
          </a:xfrm>
          <a:custGeom>
            <a:avLst/>
            <a:gdLst/>
            <a:ahLst/>
            <a:rect l="l" t="t" r="r" b="b"/>
            <a:pathLst>
              <a:path w="3924" h="2214">
                <a:moveTo>
                  <a:pt x="3924" y="1059"/>
                </a:moveTo>
                <a:cubicBezTo>
                  <a:pt x="3912" y="1071"/>
                  <a:pt x="3896" y="1080"/>
                  <a:pt x="3888" y="1095"/>
                </a:cubicBezTo>
                <a:cubicBezTo>
                  <a:pt x="3840" y="1178"/>
                  <a:pt x="3918" y="1115"/>
                  <a:pt x="3840" y="1167"/>
                </a:cubicBezTo>
                <a:cubicBezTo>
                  <a:pt x="3807" y="1266"/>
                  <a:pt x="3671" y="1342"/>
                  <a:pt x="3612" y="1431"/>
                </a:cubicBezTo>
                <a:cubicBezTo>
                  <a:pt x="3455" y="1424"/>
                  <a:pt x="3380" y="1463"/>
                  <a:pt x="3288" y="1371"/>
                </a:cubicBezTo>
                <a:cubicBezTo>
                  <a:pt x="3210" y="1136"/>
                  <a:pt x="3272" y="1348"/>
                  <a:pt x="3252" y="795"/>
                </a:cubicBezTo>
                <a:cubicBezTo>
                  <a:pt x="3248" y="687"/>
                  <a:pt x="3229" y="578"/>
                  <a:pt x="3216" y="471"/>
                </a:cubicBezTo>
                <a:cubicBezTo>
                  <a:pt x="3208" y="406"/>
                  <a:pt x="3217" y="298"/>
                  <a:pt x="3180" y="243"/>
                </a:cubicBezTo>
                <a:cubicBezTo>
                  <a:pt x="3130" y="168"/>
                  <a:pt x="3018" y="149"/>
                  <a:pt x="2940" y="123"/>
                </a:cubicBezTo>
                <a:cubicBezTo>
                  <a:pt x="2718" y="135"/>
                  <a:pt x="2771" y="117"/>
                  <a:pt x="2640" y="183"/>
                </a:cubicBezTo>
                <a:cubicBezTo>
                  <a:pt x="2589" y="259"/>
                  <a:pt x="2625" y="345"/>
                  <a:pt x="2544" y="399"/>
                </a:cubicBezTo>
                <a:cubicBezTo>
                  <a:pt x="2536" y="423"/>
                  <a:pt x="2519" y="446"/>
                  <a:pt x="2520" y="471"/>
                </a:cubicBezTo>
                <a:cubicBezTo>
                  <a:pt x="2524" y="603"/>
                  <a:pt x="2525" y="735"/>
                  <a:pt x="2532" y="867"/>
                </a:cubicBezTo>
                <a:cubicBezTo>
                  <a:pt x="2534" y="901"/>
                  <a:pt x="2554" y="910"/>
                  <a:pt x="2568" y="939"/>
                </a:cubicBezTo>
                <a:cubicBezTo>
                  <a:pt x="2606" y="1015"/>
                  <a:pt x="2650" y="1064"/>
                  <a:pt x="2700" y="1131"/>
                </a:cubicBezTo>
                <a:cubicBezTo>
                  <a:pt x="2734" y="1233"/>
                  <a:pt x="2729" y="1241"/>
                  <a:pt x="2832" y="1275"/>
                </a:cubicBezTo>
                <a:cubicBezTo>
                  <a:pt x="2849" y="1301"/>
                  <a:pt x="2875" y="1321"/>
                  <a:pt x="2892" y="1347"/>
                </a:cubicBezTo>
                <a:cubicBezTo>
                  <a:pt x="2899" y="1358"/>
                  <a:pt x="2899" y="1371"/>
                  <a:pt x="2904" y="1383"/>
                </a:cubicBezTo>
                <a:cubicBezTo>
                  <a:pt x="2931" y="1447"/>
                  <a:pt x="2945" y="1512"/>
                  <a:pt x="2976" y="1575"/>
                </a:cubicBezTo>
                <a:cubicBezTo>
                  <a:pt x="2980" y="1615"/>
                  <a:pt x="2982" y="1655"/>
                  <a:pt x="2988" y="1695"/>
                </a:cubicBezTo>
                <a:cubicBezTo>
                  <a:pt x="2990" y="1711"/>
                  <a:pt x="3000" y="1727"/>
                  <a:pt x="3000" y="1743"/>
                </a:cubicBezTo>
                <a:cubicBezTo>
                  <a:pt x="3000" y="1793"/>
                  <a:pt x="2984" y="1788"/>
                  <a:pt x="2964" y="1827"/>
                </a:cubicBezTo>
                <a:cubicBezTo>
                  <a:pt x="2958" y="1838"/>
                  <a:pt x="2960" y="1853"/>
                  <a:pt x="2952" y="1863"/>
                </a:cubicBezTo>
                <a:cubicBezTo>
                  <a:pt x="2922" y="1900"/>
                  <a:pt x="2864" y="1924"/>
                  <a:pt x="2820" y="1935"/>
                </a:cubicBezTo>
                <a:cubicBezTo>
                  <a:pt x="2737" y="1990"/>
                  <a:pt x="2607" y="1973"/>
                  <a:pt x="2508" y="1983"/>
                </a:cubicBezTo>
                <a:cubicBezTo>
                  <a:pt x="2476" y="1979"/>
                  <a:pt x="2443" y="1979"/>
                  <a:pt x="2412" y="1971"/>
                </a:cubicBezTo>
                <a:cubicBezTo>
                  <a:pt x="2386" y="1964"/>
                  <a:pt x="2365" y="1943"/>
                  <a:pt x="2340" y="1935"/>
                </a:cubicBezTo>
                <a:cubicBezTo>
                  <a:pt x="2315" y="1837"/>
                  <a:pt x="2280" y="1763"/>
                  <a:pt x="2196" y="1707"/>
                </a:cubicBezTo>
                <a:cubicBezTo>
                  <a:pt x="2160" y="1652"/>
                  <a:pt x="2115" y="1599"/>
                  <a:pt x="2088" y="1539"/>
                </a:cubicBezTo>
                <a:cubicBezTo>
                  <a:pt x="2078" y="1516"/>
                  <a:pt x="2072" y="1491"/>
                  <a:pt x="2064" y="1467"/>
                </a:cubicBezTo>
                <a:cubicBezTo>
                  <a:pt x="2060" y="1455"/>
                  <a:pt x="2052" y="1431"/>
                  <a:pt x="2052" y="1431"/>
                </a:cubicBezTo>
                <a:cubicBezTo>
                  <a:pt x="2036" y="1286"/>
                  <a:pt x="2055" y="1183"/>
                  <a:pt x="2100" y="1047"/>
                </a:cubicBezTo>
                <a:cubicBezTo>
                  <a:pt x="2129" y="959"/>
                  <a:pt x="2167" y="950"/>
                  <a:pt x="2208" y="879"/>
                </a:cubicBezTo>
                <a:cubicBezTo>
                  <a:pt x="2232" y="836"/>
                  <a:pt x="2241" y="793"/>
                  <a:pt x="2256" y="747"/>
                </a:cubicBezTo>
                <a:cubicBezTo>
                  <a:pt x="2250" y="703"/>
                  <a:pt x="2264" y="647"/>
                  <a:pt x="2232" y="615"/>
                </a:cubicBezTo>
                <a:cubicBezTo>
                  <a:pt x="2226" y="609"/>
                  <a:pt x="2148" y="591"/>
                  <a:pt x="2148" y="591"/>
                </a:cubicBezTo>
                <a:cubicBezTo>
                  <a:pt x="2026" y="558"/>
                  <a:pt x="2106" y="575"/>
                  <a:pt x="2004" y="555"/>
                </a:cubicBezTo>
                <a:cubicBezTo>
                  <a:pt x="1888" y="569"/>
                  <a:pt x="1835" y="544"/>
                  <a:pt x="1764" y="603"/>
                </a:cubicBezTo>
                <a:cubicBezTo>
                  <a:pt x="1751" y="614"/>
                  <a:pt x="1738" y="626"/>
                  <a:pt x="1728" y="639"/>
                </a:cubicBezTo>
                <a:cubicBezTo>
                  <a:pt x="1710" y="662"/>
                  <a:pt x="1680" y="711"/>
                  <a:pt x="1680" y="711"/>
                </a:cubicBezTo>
                <a:cubicBezTo>
                  <a:pt x="1670" y="752"/>
                  <a:pt x="1653" y="790"/>
                  <a:pt x="1644" y="831"/>
                </a:cubicBezTo>
                <a:cubicBezTo>
                  <a:pt x="1633" y="879"/>
                  <a:pt x="1642" y="931"/>
                  <a:pt x="1620" y="975"/>
                </a:cubicBezTo>
                <a:cubicBezTo>
                  <a:pt x="1589" y="1038"/>
                  <a:pt x="1600" y="1006"/>
                  <a:pt x="1584" y="1071"/>
                </a:cubicBezTo>
                <a:cubicBezTo>
                  <a:pt x="1580" y="1127"/>
                  <a:pt x="1577" y="1183"/>
                  <a:pt x="1572" y="1239"/>
                </a:cubicBezTo>
                <a:cubicBezTo>
                  <a:pt x="1569" y="1271"/>
                  <a:pt x="1563" y="1303"/>
                  <a:pt x="1560" y="1335"/>
                </a:cubicBezTo>
                <a:cubicBezTo>
                  <a:pt x="1551" y="1451"/>
                  <a:pt x="1544" y="1567"/>
                  <a:pt x="1536" y="1683"/>
                </a:cubicBezTo>
                <a:cubicBezTo>
                  <a:pt x="1529" y="1784"/>
                  <a:pt x="1495" y="1864"/>
                  <a:pt x="1440" y="1947"/>
                </a:cubicBezTo>
                <a:cubicBezTo>
                  <a:pt x="1426" y="1968"/>
                  <a:pt x="1392" y="1963"/>
                  <a:pt x="1368" y="1971"/>
                </a:cubicBezTo>
                <a:cubicBezTo>
                  <a:pt x="1307" y="1991"/>
                  <a:pt x="1358" y="2000"/>
                  <a:pt x="1296" y="2007"/>
                </a:cubicBezTo>
                <a:cubicBezTo>
                  <a:pt x="1142" y="2025"/>
                  <a:pt x="983" y="2040"/>
                  <a:pt x="828" y="2055"/>
                </a:cubicBezTo>
                <a:cubicBezTo>
                  <a:pt x="583" y="2051"/>
                  <a:pt x="205" y="2214"/>
                  <a:pt x="96" y="1995"/>
                </a:cubicBezTo>
                <a:cubicBezTo>
                  <a:pt x="27" y="1858"/>
                  <a:pt x="117" y="1929"/>
                  <a:pt x="36" y="1875"/>
                </a:cubicBezTo>
                <a:cubicBezTo>
                  <a:pt x="15" y="1813"/>
                  <a:pt x="9" y="1748"/>
                  <a:pt x="0" y="1683"/>
                </a:cubicBezTo>
                <a:cubicBezTo>
                  <a:pt x="4" y="1631"/>
                  <a:pt x="2" y="1578"/>
                  <a:pt x="12" y="1527"/>
                </a:cubicBezTo>
                <a:cubicBezTo>
                  <a:pt x="19" y="1492"/>
                  <a:pt x="49" y="1486"/>
                  <a:pt x="72" y="1467"/>
                </a:cubicBezTo>
                <a:cubicBezTo>
                  <a:pt x="85" y="1456"/>
                  <a:pt x="92" y="1437"/>
                  <a:pt x="108" y="1431"/>
                </a:cubicBezTo>
                <a:cubicBezTo>
                  <a:pt x="134" y="1420"/>
                  <a:pt x="164" y="1425"/>
                  <a:pt x="192" y="1419"/>
                </a:cubicBezTo>
                <a:cubicBezTo>
                  <a:pt x="414" y="1371"/>
                  <a:pt x="139" y="1415"/>
                  <a:pt x="360" y="1383"/>
                </a:cubicBezTo>
                <a:cubicBezTo>
                  <a:pt x="481" y="1343"/>
                  <a:pt x="606" y="1337"/>
                  <a:pt x="732" y="1323"/>
                </a:cubicBezTo>
                <a:cubicBezTo>
                  <a:pt x="863" y="1279"/>
                  <a:pt x="977" y="1219"/>
                  <a:pt x="1092" y="1143"/>
                </a:cubicBezTo>
                <a:cubicBezTo>
                  <a:pt x="1111" y="1114"/>
                  <a:pt x="1139" y="1091"/>
                  <a:pt x="1152" y="1059"/>
                </a:cubicBezTo>
                <a:cubicBezTo>
                  <a:pt x="1188" y="972"/>
                  <a:pt x="1172" y="958"/>
                  <a:pt x="1224" y="879"/>
                </a:cubicBezTo>
                <a:cubicBezTo>
                  <a:pt x="1253" y="707"/>
                  <a:pt x="1214" y="878"/>
                  <a:pt x="1260" y="771"/>
                </a:cubicBezTo>
                <a:cubicBezTo>
                  <a:pt x="1288" y="706"/>
                  <a:pt x="1291" y="641"/>
                  <a:pt x="1368" y="615"/>
                </a:cubicBezTo>
                <a:cubicBezTo>
                  <a:pt x="1411" y="572"/>
                  <a:pt x="1459" y="554"/>
                  <a:pt x="1512" y="519"/>
                </a:cubicBezTo>
                <a:cubicBezTo>
                  <a:pt x="1573" y="478"/>
                  <a:pt x="1590" y="420"/>
                  <a:pt x="1644" y="375"/>
                </a:cubicBezTo>
                <a:cubicBezTo>
                  <a:pt x="1724" y="308"/>
                  <a:pt x="1638" y="417"/>
                  <a:pt x="1776" y="279"/>
                </a:cubicBezTo>
                <a:cubicBezTo>
                  <a:pt x="1834" y="221"/>
                  <a:pt x="1908" y="159"/>
                  <a:pt x="1980" y="123"/>
                </a:cubicBezTo>
                <a:cubicBezTo>
                  <a:pt x="1996" y="99"/>
                  <a:pt x="2022" y="81"/>
                  <a:pt x="1992" y="51"/>
                </a:cubicBezTo>
                <a:cubicBezTo>
                  <a:pt x="1983" y="42"/>
                  <a:pt x="1968" y="42"/>
                  <a:pt x="1956" y="39"/>
                </a:cubicBezTo>
                <a:cubicBezTo>
                  <a:pt x="1924" y="30"/>
                  <a:pt x="1892" y="23"/>
                  <a:pt x="1860" y="15"/>
                </a:cubicBezTo>
                <a:cubicBezTo>
                  <a:pt x="1844" y="11"/>
                  <a:pt x="1812" y="3"/>
                  <a:pt x="1812" y="3"/>
                </a:cubicBezTo>
                <a:cubicBezTo>
                  <a:pt x="1732" y="9"/>
                  <a:pt x="1648" y="0"/>
                  <a:pt x="1572" y="27"/>
                </a:cubicBezTo>
                <a:cubicBezTo>
                  <a:pt x="1553" y="34"/>
                  <a:pt x="1542" y="54"/>
                  <a:pt x="1524" y="63"/>
                </a:cubicBezTo>
                <a:cubicBezTo>
                  <a:pt x="1509" y="70"/>
                  <a:pt x="1492" y="71"/>
                  <a:pt x="1476" y="75"/>
                </a:cubicBezTo>
                <a:cubicBezTo>
                  <a:pt x="1388" y="163"/>
                  <a:pt x="1279" y="193"/>
                  <a:pt x="1164" y="231"/>
                </a:cubicBezTo>
                <a:cubicBezTo>
                  <a:pt x="1128" y="227"/>
                  <a:pt x="1091" y="228"/>
                  <a:pt x="1056" y="219"/>
                </a:cubicBezTo>
                <a:cubicBezTo>
                  <a:pt x="1042" y="216"/>
                  <a:pt x="1034" y="200"/>
                  <a:pt x="1020" y="195"/>
                </a:cubicBezTo>
                <a:cubicBezTo>
                  <a:pt x="978" y="181"/>
                  <a:pt x="933" y="173"/>
                  <a:pt x="888" y="171"/>
                </a:cubicBezTo>
                <a:cubicBezTo>
                  <a:pt x="828" y="168"/>
                  <a:pt x="768" y="171"/>
                  <a:pt x="708" y="1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3480" y="3200400"/>
            <a:ext cx="6514920" cy="2805120"/>
          </a:xfrm>
          <a:custGeom>
            <a:avLst/>
            <a:gdLst/>
            <a:ahLst/>
            <a:rect l="l" t="t" r="r" b="b"/>
            <a:pathLst>
              <a:path w="4104" h="1767">
                <a:moveTo>
                  <a:pt x="4104" y="264"/>
                </a:moveTo>
                <a:cubicBezTo>
                  <a:pt x="4063" y="269"/>
                  <a:pt x="3975" y="274"/>
                  <a:pt x="3936" y="300"/>
                </a:cubicBezTo>
                <a:cubicBezTo>
                  <a:pt x="3869" y="344"/>
                  <a:pt x="3776" y="376"/>
                  <a:pt x="3720" y="432"/>
                </a:cubicBezTo>
                <a:cubicBezTo>
                  <a:pt x="3687" y="465"/>
                  <a:pt x="3649" y="499"/>
                  <a:pt x="3612" y="528"/>
                </a:cubicBezTo>
                <a:cubicBezTo>
                  <a:pt x="3545" y="580"/>
                  <a:pt x="3480" y="624"/>
                  <a:pt x="3420" y="684"/>
                </a:cubicBezTo>
                <a:cubicBezTo>
                  <a:pt x="3394" y="763"/>
                  <a:pt x="3430" y="685"/>
                  <a:pt x="3372" y="732"/>
                </a:cubicBezTo>
                <a:cubicBezTo>
                  <a:pt x="3361" y="741"/>
                  <a:pt x="3358" y="758"/>
                  <a:pt x="3348" y="768"/>
                </a:cubicBezTo>
                <a:cubicBezTo>
                  <a:pt x="3338" y="778"/>
                  <a:pt x="3324" y="784"/>
                  <a:pt x="3312" y="792"/>
                </a:cubicBezTo>
                <a:cubicBezTo>
                  <a:pt x="3293" y="870"/>
                  <a:pt x="3234" y="906"/>
                  <a:pt x="3180" y="960"/>
                </a:cubicBezTo>
                <a:cubicBezTo>
                  <a:pt x="3091" y="1049"/>
                  <a:pt x="3193" y="975"/>
                  <a:pt x="3108" y="1032"/>
                </a:cubicBezTo>
                <a:cubicBezTo>
                  <a:pt x="3077" y="1079"/>
                  <a:pt x="3084" y="1096"/>
                  <a:pt x="3036" y="1128"/>
                </a:cubicBezTo>
                <a:cubicBezTo>
                  <a:pt x="2997" y="1187"/>
                  <a:pt x="2948" y="1218"/>
                  <a:pt x="2892" y="1260"/>
                </a:cubicBezTo>
                <a:cubicBezTo>
                  <a:pt x="2881" y="1293"/>
                  <a:pt x="2841" y="1367"/>
                  <a:pt x="2820" y="1392"/>
                </a:cubicBezTo>
                <a:cubicBezTo>
                  <a:pt x="2800" y="1416"/>
                  <a:pt x="2768" y="1428"/>
                  <a:pt x="2748" y="1452"/>
                </a:cubicBezTo>
                <a:cubicBezTo>
                  <a:pt x="2716" y="1490"/>
                  <a:pt x="2695" y="1520"/>
                  <a:pt x="2652" y="1548"/>
                </a:cubicBezTo>
                <a:cubicBezTo>
                  <a:pt x="2626" y="1627"/>
                  <a:pt x="2662" y="1549"/>
                  <a:pt x="2604" y="1596"/>
                </a:cubicBezTo>
                <a:cubicBezTo>
                  <a:pt x="2593" y="1605"/>
                  <a:pt x="2591" y="1623"/>
                  <a:pt x="2580" y="1632"/>
                </a:cubicBezTo>
                <a:cubicBezTo>
                  <a:pt x="2511" y="1692"/>
                  <a:pt x="2438" y="1727"/>
                  <a:pt x="2352" y="1752"/>
                </a:cubicBezTo>
                <a:cubicBezTo>
                  <a:pt x="2293" y="1740"/>
                  <a:pt x="2251" y="1726"/>
                  <a:pt x="2196" y="1704"/>
                </a:cubicBezTo>
                <a:cubicBezTo>
                  <a:pt x="2173" y="1695"/>
                  <a:pt x="2124" y="1680"/>
                  <a:pt x="2124" y="1680"/>
                </a:cubicBezTo>
                <a:cubicBezTo>
                  <a:pt x="2083" y="1619"/>
                  <a:pt x="2017" y="1600"/>
                  <a:pt x="1956" y="1560"/>
                </a:cubicBezTo>
                <a:cubicBezTo>
                  <a:pt x="1944" y="1552"/>
                  <a:pt x="1932" y="1544"/>
                  <a:pt x="1920" y="1536"/>
                </a:cubicBezTo>
                <a:cubicBezTo>
                  <a:pt x="1908" y="1528"/>
                  <a:pt x="1884" y="1512"/>
                  <a:pt x="1884" y="1512"/>
                </a:cubicBezTo>
                <a:cubicBezTo>
                  <a:pt x="1858" y="1473"/>
                  <a:pt x="1821" y="1458"/>
                  <a:pt x="1800" y="1416"/>
                </a:cubicBezTo>
                <a:cubicBezTo>
                  <a:pt x="1780" y="1377"/>
                  <a:pt x="1773" y="1329"/>
                  <a:pt x="1740" y="1296"/>
                </a:cubicBezTo>
                <a:cubicBezTo>
                  <a:pt x="1730" y="1286"/>
                  <a:pt x="1715" y="1281"/>
                  <a:pt x="1704" y="1272"/>
                </a:cubicBezTo>
                <a:cubicBezTo>
                  <a:pt x="1691" y="1261"/>
                  <a:pt x="1683" y="1244"/>
                  <a:pt x="1668" y="1236"/>
                </a:cubicBezTo>
                <a:cubicBezTo>
                  <a:pt x="1646" y="1224"/>
                  <a:pt x="1596" y="1212"/>
                  <a:pt x="1596" y="1212"/>
                </a:cubicBezTo>
                <a:cubicBezTo>
                  <a:pt x="1540" y="1156"/>
                  <a:pt x="1574" y="1185"/>
                  <a:pt x="1488" y="1128"/>
                </a:cubicBezTo>
                <a:cubicBezTo>
                  <a:pt x="1476" y="1120"/>
                  <a:pt x="1464" y="1112"/>
                  <a:pt x="1452" y="1104"/>
                </a:cubicBezTo>
                <a:cubicBezTo>
                  <a:pt x="1440" y="1096"/>
                  <a:pt x="1416" y="1080"/>
                  <a:pt x="1416" y="1080"/>
                </a:cubicBezTo>
                <a:cubicBezTo>
                  <a:pt x="1358" y="993"/>
                  <a:pt x="1214" y="1019"/>
                  <a:pt x="1116" y="1008"/>
                </a:cubicBezTo>
                <a:cubicBezTo>
                  <a:pt x="1065" y="991"/>
                  <a:pt x="1011" y="989"/>
                  <a:pt x="960" y="972"/>
                </a:cubicBezTo>
                <a:cubicBezTo>
                  <a:pt x="874" y="977"/>
                  <a:pt x="682" y="980"/>
                  <a:pt x="588" y="1032"/>
                </a:cubicBezTo>
                <a:cubicBezTo>
                  <a:pt x="563" y="1046"/>
                  <a:pt x="543" y="1071"/>
                  <a:pt x="516" y="1080"/>
                </a:cubicBezTo>
                <a:cubicBezTo>
                  <a:pt x="459" y="1099"/>
                  <a:pt x="413" y="1137"/>
                  <a:pt x="360" y="1164"/>
                </a:cubicBezTo>
                <a:cubicBezTo>
                  <a:pt x="349" y="1170"/>
                  <a:pt x="335" y="1170"/>
                  <a:pt x="324" y="1176"/>
                </a:cubicBezTo>
                <a:cubicBezTo>
                  <a:pt x="247" y="1219"/>
                  <a:pt x="180" y="1280"/>
                  <a:pt x="96" y="1308"/>
                </a:cubicBezTo>
                <a:cubicBezTo>
                  <a:pt x="48" y="1356"/>
                  <a:pt x="21" y="1412"/>
                  <a:pt x="0" y="1476"/>
                </a:cubicBezTo>
                <a:cubicBezTo>
                  <a:pt x="5" y="1513"/>
                  <a:pt x="1" y="1568"/>
                  <a:pt x="36" y="1596"/>
                </a:cubicBezTo>
                <a:cubicBezTo>
                  <a:pt x="66" y="1620"/>
                  <a:pt x="121" y="1627"/>
                  <a:pt x="156" y="1644"/>
                </a:cubicBezTo>
                <a:cubicBezTo>
                  <a:pt x="301" y="1716"/>
                  <a:pt x="359" y="1695"/>
                  <a:pt x="564" y="1704"/>
                </a:cubicBezTo>
                <a:cubicBezTo>
                  <a:pt x="879" y="1767"/>
                  <a:pt x="1188" y="1734"/>
                  <a:pt x="1512" y="1728"/>
                </a:cubicBezTo>
                <a:cubicBezTo>
                  <a:pt x="1605" y="1709"/>
                  <a:pt x="1563" y="1716"/>
                  <a:pt x="1692" y="1704"/>
                </a:cubicBezTo>
                <a:cubicBezTo>
                  <a:pt x="1784" y="1696"/>
                  <a:pt x="1968" y="1680"/>
                  <a:pt x="1968" y="1680"/>
                </a:cubicBezTo>
                <a:cubicBezTo>
                  <a:pt x="2000" y="1672"/>
                  <a:pt x="2041" y="1679"/>
                  <a:pt x="2064" y="1656"/>
                </a:cubicBezTo>
                <a:cubicBezTo>
                  <a:pt x="2113" y="1607"/>
                  <a:pt x="2085" y="1628"/>
                  <a:pt x="2148" y="1596"/>
                </a:cubicBezTo>
                <a:cubicBezTo>
                  <a:pt x="2184" y="1541"/>
                  <a:pt x="2252" y="1457"/>
                  <a:pt x="2268" y="1392"/>
                </a:cubicBezTo>
                <a:cubicBezTo>
                  <a:pt x="2309" y="1229"/>
                  <a:pt x="2274" y="1288"/>
                  <a:pt x="2340" y="1200"/>
                </a:cubicBezTo>
                <a:cubicBezTo>
                  <a:pt x="2348" y="1176"/>
                  <a:pt x="2350" y="1149"/>
                  <a:pt x="2364" y="1128"/>
                </a:cubicBezTo>
                <a:cubicBezTo>
                  <a:pt x="2372" y="1116"/>
                  <a:pt x="2382" y="1105"/>
                  <a:pt x="2388" y="1092"/>
                </a:cubicBezTo>
                <a:cubicBezTo>
                  <a:pt x="2409" y="1051"/>
                  <a:pt x="2409" y="1012"/>
                  <a:pt x="2436" y="972"/>
                </a:cubicBezTo>
                <a:cubicBezTo>
                  <a:pt x="2429" y="868"/>
                  <a:pt x="2456" y="797"/>
                  <a:pt x="2376" y="744"/>
                </a:cubicBezTo>
                <a:cubicBezTo>
                  <a:pt x="2334" y="681"/>
                  <a:pt x="2249" y="663"/>
                  <a:pt x="2184" y="624"/>
                </a:cubicBezTo>
                <a:cubicBezTo>
                  <a:pt x="2135" y="595"/>
                  <a:pt x="2088" y="560"/>
                  <a:pt x="2040" y="528"/>
                </a:cubicBezTo>
                <a:cubicBezTo>
                  <a:pt x="2024" y="517"/>
                  <a:pt x="1860" y="480"/>
                  <a:pt x="1860" y="480"/>
                </a:cubicBezTo>
                <a:cubicBezTo>
                  <a:pt x="1812" y="448"/>
                  <a:pt x="1764" y="416"/>
                  <a:pt x="1716" y="384"/>
                </a:cubicBezTo>
                <a:cubicBezTo>
                  <a:pt x="1626" y="324"/>
                  <a:pt x="1727" y="374"/>
                  <a:pt x="1656" y="312"/>
                </a:cubicBezTo>
                <a:cubicBezTo>
                  <a:pt x="1623" y="284"/>
                  <a:pt x="1589" y="254"/>
                  <a:pt x="1548" y="240"/>
                </a:cubicBezTo>
                <a:cubicBezTo>
                  <a:pt x="1524" y="232"/>
                  <a:pt x="1497" y="230"/>
                  <a:pt x="1476" y="216"/>
                </a:cubicBezTo>
                <a:cubicBezTo>
                  <a:pt x="1464" y="208"/>
                  <a:pt x="1453" y="198"/>
                  <a:pt x="1440" y="192"/>
                </a:cubicBezTo>
                <a:cubicBezTo>
                  <a:pt x="1373" y="162"/>
                  <a:pt x="1379" y="183"/>
                  <a:pt x="1332" y="144"/>
                </a:cubicBezTo>
                <a:cubicBezTo>
                  <a:pt x="1294" y="112"/>
                  <a:pt x="1278" y="76"/>
                  <a:pt x="1236" y="48"/>
                </a:cubicBezTo>
                <a:cubicBezTo>
                  <a:pt x="1223" y="8"/>
                  <a:pt x="1224" y="25"/>
                  <a:pt x="1224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457360"/>
            <a:ext cx="1143000" cy="1028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4648320"/>
            <a:ext cx="1574640" cy="16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09920" y="2305080"/>
            <a:ext cx="4095720" cy="781200"/>
          </a:xfrm>
          <a:custGeom>
            <a:avLst/>
            <a:gdLst/>
            <a:ahLst/>
            <a:rect l="l" t="t" r="r" b="b"/>
            <a:pathLst>
              <a:path w="2580" h="492">
                <a:moveTo>
                  <a:pt x="0" y="276"/>
                </a:moveTo>
                <a:cubicBezTo>
                  <a:pt x="12" y="284"/>
                  <a:pt x="22" y="302"/>
                  <a:pt x="36" y="300"/>
                </a:cubicBezTo>
                <a:cubicBezTo>
                  <a:pt x="56" y="297"/>
                  <a:pt x="66" y="272"/>
                  <a:pt x="84" y="264"/>
                </a:cubicBezTo>
                <a:cubicBezTo>
                  <a:pt x="114" y="251"/>
                  <a:pt x="148" y="248"/>
                  <a:pt x="180" y="240"/>
                </a:cubicBezTo>
                <a:cubicBezTo>
                  <a:pt x="192" y="232"/>
                  <a:pt x="203" y="222"/>
                  <a:pt x="216" y="216"/>
                </a:cubicBezTo>
                <a:cubicBezTo>
                  <a:pt x="231" y="210"/>
                  <a:pt x="250" y="212"/>
                  <a:pt x="264" y="204"/>
                </a:cubicBezTo>
                <a:cubicBezTo>
                  <a:pt x="279" y="196"/>
                  <a:pt x="285" y="176"/>
                  <a:pt x="300" y="168"/>
                </a:cubicBezTo>
                <a:cubicBezTo>
                  <a:pt x="322" y="156"/>
                  <a:pt x="351" y="158"/>
                  <a:pt x="372" y="144"/>
                </a:cubicBezTo>
                <a:cubicBezTo>
                  <a:pt x="447" y="94"/>
                  <a:pt x="510" y="63"/>
                  <a:pt x="600" y="48"/>
                </a:cubicBezTo>
                <a:cubicBezTo>
                  <a:pt x="694" y="1"/>
                  <a:pt x="809" y="8"/>
                  <a:pt x="912" y="0"/>
                </a:cubicBezTo>
                <a:cubicBezTo>
                  <a:pt x="1168" y="4"/>
                  <a:pt x="1424" y="1"/>
                  <a:pt x="1680" y="12"/>
                </a:cubicBezTo>
                <a:cubicBezTo>
                  <a:pt x="1725" y="14"/>
                  <a:pt x="1824" y="53"/>
                  <a:pt x="1872" y="60"/>
                </a:cubicBezTo>
                <a:cubicBezTo>
                  <a:pt x="1936" y="92"/>
                  <a:pt x="2005" y="104"/>
                  <a:pt x="2064" y="144"/>
                </a:cubicBezTo>
                <a:cubicBezTo>
                  <a:pt x="2099" y="196"/>
                  <a:pt x="2155" y="210"/>
                  <a:pt x="2208" y="240"/>
                </a:cubicBezTo>
                <a:cubicBezTo>
                  <a:pt x="2284" y="282"/>
                  <a:pt x="2340" y="320"/>
                  <a:pt x="2424" y="348"/>
                </a:cubicBezTo>
                <a:cubicBezTo>
                  <a:pt x="2449" y="356"/>
                  <a:pt x="2471" y="376"/>
                  <a:pt x="2496" y="384"/>
                </a:cubicBezTo>
                <a:cubicBezTo>
                  <a:pt x="2528" y="480"/>
                  <a:pt x="2480" y="368"/>
                  <a:pt x="2544" y="432"/>
                </a:cubicBezTo>
                <a:cubicBezTo>
                  <a:pt x="2553" y="441"/>
                  <a:pt x="2549" y="457"/>
                  <a:pt x="2556" y="468"/>
                </a:cubicBezTo>
                <a:cubicBezTo>
                  <a:pt x="2562" y="478"/>
                  <a:pt x="2572" y="484"/>
                  <a:pt x="2580" y="492"/>
                </a:cubicBezTo>
              </a:path>
            </a:pathLst>
          </a:custGeom>
          <a:noFill/>
          <a:ln cap="rnd" w="76320">
            <a:solidFill>
              <a:srgbClr val="00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93212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تحديد الاتجاه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44484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التخطيط للتحرك نحو الاتجاه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495612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تنفيذ المهام التي توصلك للاتج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1498680"/>
            <a:ext cx="2160360" cy="4825800"/>
          </a:xfrm>
          <a:prstGeom prst="flowChartAlternateProcess">
            <a:avLst/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ثلاث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مجال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نقوم ب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في حياتن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اليوم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49680" y="186372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تحديد الاتجا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49680" y="323208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خطيط للتحرك نحو الاتج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49680" y="474516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تنفيذ المهام التي توصلك للاتجا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720800"/>
            <a:ext cx="1295640" cy="115092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11480" y="3162240"/>
            <a:ext cx="1295280" cy="115092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1480" y="4602240"/>
            <a:ext cx="1295280" cy="115092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0" y="1720800"/>
            <a:ext cx="2087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0732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تفكير اللازم لتنفيذ أي عمل والذي ينتهي باتخاذ القرارات المتعلقة بما يجب عمله ومتى وكيف وما هي الإمكانيات البشرية والمادية اللازمة لتنفيذ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276720"/>
            <a:ext cx="4311720" cy="22885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عملية استقراء المستقبل و التحضير له منذ الآن ، تحسباً لأي مخاطر يستوجب درؤها قبل حدوثها من أجل الاستمرارية في عالم متغير باستمرا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4400640" cy="1557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خريطة التي ترشدك من المكان الذي أنت فيه الآن ،  إلى المكان الذي تريد أن تصل إليه ، وكي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979720" cy="345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944680" y="1447920"/>
            <a:ext cx="33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L-Mateen"/>
              </a:rPr>
              <a:t>* تعريف التخطيط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57913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ويم النشاط وذلك بتحديد جوانب القصور ومعالجتها مستقبلاً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99760" y="1371600"/>
            <a:ext cx="433512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كيفية إعداد الخطة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893600" cy="189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638360" y="2209680"/>
            <a:ext cx="10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أهداف الرئيسية والثانوية وصياغتها بحيث تقبل القياس والتقو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638680" y="2743200"/>
            <a:ext cx="1808280" cy="153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859320" y="312408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نوع النشاط والوقت الملائم لممارسته وإنجاز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056120" y="3809880"/>
            <a:ext cx="1030320" cy="1505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4560" y="426708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أسلوب الممار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781680" y="4313160"/>
            <a:ext cx="20574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7772400" y="342900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520" y="2895480"/>
            <a:ext cx="1219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523880"/>
            <a:ext cx="243828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L-Mateen"/>
              </a:rPr>
              <a:t>* مراحل التخطيط 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05720" y="2448000"/>
            <a:ext cx="2209680" cy="100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29400" y="2743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إعداد الخ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90920" y="2457360"/>
            <a:ext cx="2895480" cy="100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38240" y="274320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موافقة على الخ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4097160"/>
            <a:ext cx="1676520" cy="100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2360" y="44020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5410080"/>
            <a:ext cx="3657600" cy="100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53480" y="57150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متاب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781680" y="4114800"/>
            <a:ext cx="2210040" cy="100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90680" y="434340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تقو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62360" y="2895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7240" y="2895480"/>
            <a:ext cx="180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10552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594360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772400" y="510552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048120"/>
            <a:ext cx="0" cy="2209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341360"/>
            <a:ext cx="8076960" cy="106884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الإمكانيات البشرية والمادية اللازمة لتنفيذ البرامج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05000"/>
            <a:ext cx="8686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وفير الخامات اللازمة لممارسة النشاط من مواد وأدوات  ووسائل وأجهزة وآل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جهيز الأماكن المخصصة والمناسبة لممارسة كل نوع من أنواع الأنشطة قبل البدء بوقت ك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اختيار الوقت المناسب والكافي لممارسة تنفيذ البر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اختيار المشرفين المؤهلين للإشراف على البرن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وفير ميزانية كاف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036880" cy="2467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10:32Z</dcterms:created>
  <dc:creator>111</dc:creator>
  <dc:description/>
  <dc:language>en-US</dc:language>
  <cp:lastModifiedBy>***</cp:lastModifiedBy>
  <dcterms:modified xsi:type="dcterms:W3CDTF">2005-06-20T11:14:14Z</dcterms:modified>
  <cp:revision>134</cp:revision>
  <dc:subject/>
  <dc:title>الشريحة 1</dc:title>
</cp:coreProperties>
</file>